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03C3-6A68-436F-A5B3-CF3F5205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A226-41E7-4C18-A32D-EECB9B322BAC}" type="datetime"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Dr. Navneet Goyal, BITS,Pilan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F4B-7531-4C56-BBE8-C209988A4B54}" type="slidenum"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4200-AC51-4728-B455-81E5A8D55552}" type="datetime"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Dr. Navneet Goyal, BITS,Pilan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5422-0EEB-48AF-AFAB-AB9A79BE3261}" type="slidenum"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B1A-550E-4664-8BC8-779A4854D721}" type="datetime"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Dr. Navneet Goyal, BITS,Pilani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E8A-FDF5-4736-8089-6A4E77494FD2}" type="slidenum">
              <a:rPr b="0" lang="en-US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8A7-E5BD-4F75-8C63-444A0874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985-FB87-462A-90B3-AF899312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C59-89D2-484E-8A3B-65A74E6B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862-54E3-4D13-9D52-6975206D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81D-EFD3-4354-92DE-3BE194D9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CA1B-D00D-4D3F-B546-884B5720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BA0-9A57-430E-9304-4593D677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F56-4C30-4E52-B0A7-A27C8B63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EAF3-9B27-4A01-AB78-A53C8AA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9BE-10DF-4625-BC6F-25EDC04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9CF2-F813-4BB4-B386-5435DDE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31F-F9AB-4CAA-8512-5504906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F6E-FBEC-432F-A3A8-B3A17B10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69D4-5DDE-4EDC-8C29-50D4190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C833-2E2B-4306-A349-B6206F17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7847-3E87-40BC-8ADD-2DAD022D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9353-4966-4F21-9932-2E5A19AF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D7CD-F845-473F-B686-09FC9FF9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6E31-D3B1-4FE0-841F-F3DB2C46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6878-58D5-4E87-BED9-AD26BF1E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32A3-7EF5-4C4A-A015-4D04E905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FBBB-6FD7-43DF-A0D8-21CF08D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081-B681-4021-ACD3-11AAF66A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6919-E7F1-4CF4-BB5E-8D89B8B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AFC8-1DE1-4014-8ABC-7B0488CB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A09A-499F-4D4F-9207-CFEFFC7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01E6-1030-4330-A87D-E0B484B0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83DE-EAEB-44DA-B723-6EDC71A1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F93A-0460-4A83-8CFC-5739AC20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3D35-F324-41F8-AB0F-16DB1C24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925C-C15D-4F6C-A3D1-7B8744C1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8889-9DC0-4D44-A7AA-05D5A283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A1C0-1FC7-432F-BA0A-51CCBC5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B50-CD9D-44F6-82C9-6173517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2CC8-6CEB-40FD-878C-0D580B7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C3A5-C383-4960-ABCE-C582ECB2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9AAA8-1BC6-4493-A2D1-2FD10CB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4664-5300-4303-A7EF-03310EA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E46F-1E38-498F-9416-5CD35ED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71FF-E3BB-4B22-8ACC-C9DBD0E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93A4-C5AF-4367-A385-ED2C9F10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1D74-BE14-4509-BF33-46C91A01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94CA3-CC38-4224-9A12-6519FF63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DAE-758A-4171-9FA8-579DCBAA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A8B-56D9-4B39-A8E5-756A20F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4BD-5162-45CA-8000-907EE2A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8EB-26AB-437B-AAE9-9D720AB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AC3-3C30-41A8-A0CB-1D91DFCD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40D-0300-4327-81D3-AC86347D3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D70-6D29-4CDB-AC60-4B05C385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2330-7A85-4852-A441-C37308D8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26EE-6013-42A4-8ED4-78A0F03258E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pervised Learning and k Nearest Neighb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Intelligence for Mana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220968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CEE2-A2B0-41BA-965F-F437ABDE3F9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Example: Digit Recogn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40388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nn LeCunn – MNIST Digit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ndwritten dig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8x28 pixel images: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7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0,000 training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,000 test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arest neighbour is compet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788000" y="2492280"/>
          <a:ext cx="3600360" cy="2698920"/>
        </p:xfrm>
        <a:graphic>
          <a:graphicData uri="http://schemas.openxmlformats.org/drawingml/2006/table">
            <a:tbl>
              <a:tblPr/>
              <a:tblGrid>
                <a:gridCol w="3097080"/>
                <a:gridCol w="503280"/>
              </a:tblGrid>
              <a:tr h="241200"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Test Error Rate (%)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Linear classifier (1-layer NN)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12.0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K-nearest-neighbors, Euclidean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K-nearest-neighbors, Euclidean, deskewed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K-NN, Tangent Distance, 16x16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K-NN, shape context matching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0.67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1000 RBF + linear classifier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SVM deg 4 polynomial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2-layer NN, 300 hidden units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c0c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2-layer NN, 300 HU, [deskewing]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LeNet-5, [distortions]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Boosted LeNet-4, [distortions]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6666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"/>
          <p:cNvSpPr/>
          <p:nvPr/>
        </p:nvSpPr>
        <p:spPr>
          <a:xfrm>
            <a:off x="131112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47" name="Picture 103" descr="sample_digits"/>
          <p:cNvPicPr/>
          <p:nvPr/>
        </p:nvPicPr>
        <p:blipFill>
          <a:blip r:embed="rId1">
            <a:grayscl/>
          </a:blip>
          <a:stretch/>
        </p:blipFill>
        <p:spPr>
          <a:xfrm>
            <a:off x="1979640" y="1557360"/>
            <a:ext cx="5297400" cy="528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8" descr="usps"/>
          <p:cNvPicPr/>
          <p:nvPr/>
        </p:nvPicPr>
        <p:blipFill>
          <a:blip r:embed="rId2"/>
          <a:stretch/>
        </p:blipFill>
        <p:spPr>
          <a:xfrm>
            <a:off x="324000" y="6165720"/>
            <a:ext cx="2412720" cy="470160"/>
          </a:xfrm>
          <a:prstGeom prst="rect">
            <a:avLst/>
          </a:prstGeom>
          <a:ln w="0">
            <a:noFill/>
          </a:ln>
        </p:spPr>
      </p:pic>
      <p:sp>
        <p:nvSpPr>
          <p:cNvPr id="2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C188-B620-4EB3-9762-8E9A38A5E54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tance formul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clidian distance: squareroot of sum of squares of difference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wo features:  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uition: similar samples should be close to each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ot always app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quota and actual s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4800600" y="3276720"/>
            <a:ext cx="76320" cy="380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 flipV="1">
            <a:off x="4876920" y="3047760"/>
            <a:ext cx="152280" cy="6094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5029200" y="304812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E60F-FBDF-49EB-ABDF-941EC62C3F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omparable ran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clidian distance formula has the implicit assumption that the different dimensions are compa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 that span wider ranges affect the distance value more than features with limited r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10C-DB57-4FDF-9512-972CDBDB767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on-numeric 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 values are not always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values:  Yes or no, presence or absence of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:  Colors, educational attainment,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these values factor into the computation of dist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FA05-483B-45A1-9E0D-C7BE2CC6A81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aling with non-numeric 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values =&gt; convert to 0 or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yes-no/presence-absenc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binary character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atural progression when applicable; e.g., educational attainment: GS, HS, College, MS, PHD =&gt; 1,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rbitrary numbers but be careful about distances; e.g., color: red, yellow, blue =&gt; 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about unavailable data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0 value not always the answ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950-CC7C-46F2-AA57-9741299FAA4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-NN vari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 of 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k increases confidence in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if k is too large, decision may be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ed evaluation of nearest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in majority may unfairly skew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algorithm so that closer neighbors have greater “vote we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distance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DC88-7B11-4DEF-8A73-AC6DF4CE419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distance measur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ty-block distance (Manhattan d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bsolute value of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ine simi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angle formed by the two samples (with the orig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ccard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ercentage of exact matches between the samples (not including unavailable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DD9-E1DA-412A-B603-C5FFDDA9C67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-NN Time Complex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there are m instances and n features in the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est neighbor algorithm requires computing m di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distance computation involves scanning through each feature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ning time complexity is proportional to m X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92E-981A-492E-AC2C-55DC8FD3ECB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d classificatio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: dataset of instances with known categ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 using the “knowledge” in the dataset, classify a given in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category of the given instance that is rationally consistent with the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FEF-00E2-42D3-A341-72DB03F34E3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assifi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3657600" y="2514600"/>
            <a:ext cx="1905120" cy="167652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038480" y="3124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Classifier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2057400" y="2819520"/>
            <a:ext cx="15238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2057400" y="3048120"/>
            <a:ext cx="15238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057400" y="3276720"/>
            <a:ext cx="15238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057400" y="3733920"/>
            <a:ext cx="15238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516040" y="31240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914400" y="2895480"/>
            <a:ext cx="88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valu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5638680" y="3276720"/>
            <a:ext cx="990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841800" y="30621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15680" y="2514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X1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251568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X2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2515680" y="29718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X3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2515680" y="34290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Xn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602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4267080" y="4724280"/>
            <a:ext cx="685800" cy="762120"/>
          </a:xfrm>
          <a:prstGeom prst="flowChartMagneticDisk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10" name="AutoShape 20"/>
          <p:cNvCxnSpPr>
            <a:stCxn id="194" idx="4"/>
            <a:endCxn id="209" idx="1"/>
          </p:cNvCxnSpPr>
          <p:nvPr/>
        </p:nvCxnSpPr>
        <p:spPr>
          <a:xfrm>
            <a:off x="4609800" y="4190760"/>
            <a:ext cx="1080" cy="533880"/>
          </a:xfrm>
          <a:prstGeom prst="straightConnector1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Text Box 22"/>
          <p:cNvSpPr/>
          <p:nvPr/>
        </p:nvSpPr>
        <p:spPr>
          <a:xfrm>
            <a:off x="5024880" y="4800600"/>
            <a:ext cx="248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collection of instances</a:t>
            </a:r>
            <a:br>
              <a:rPr sz="2000"/>
            </a:b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with known categori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FC6-73D4-49DE-AE56-7CE05255DC2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 Nearest Neighbors (kN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ïve-Ba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others (support vector machines, neural networks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5D3-AE7A-43B3-8C44-215B84E350C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 - Nearest Neighbo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 given instance T, get the top k dataset instances that are “nearest” to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reasonable distanc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pect the category of these k instances, choose the category C that represent the most inst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de that T belongs to category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D80B-8C4B-4E53-B8C4-4456AB5E414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Nearest Neighbour 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8" descr="points"/>
          <p:cNvPicPr/>
          <p:nvPr/>
        </p:nvPicPr>
        <p:blipFill>
          <a:blip r:embed="rId1"/>
          <a:srcRect l="30501" t="27673" r="17650" b="36096"/>
          <a:stretch/>
        </p:blipFill>
        <p:spPr>
          <a:xfrm>
            <a:off x="755640" y="1484280"/>
            <a:ext cx="3960720" cy="2076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6" descr="nearest"/>
          <p:cNvPicPr/>
          <p:nvPr/>
        </p:nvPicPr>
        <p:blipFill>
          <a:blip r:embed="rId2"/>
          <a:srcRect l="49440" t="37482" r="35630" b="47111"/>
          <a:stretch/>
        </p:blipFill>
        <p:spPr>
          <a:xfrm>
            <a:off x="5508720" y="3860640"/>
            <a:ext cx="1368360" cy="105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2" name="Picture 37" descr="nearest3"/>
          <p:cNvPicPr/>
          <p:nvPr/>
        </p:nvPicPr>
        <p:blipFill>
          <a:blip r:embed="rId3"/>
          <a:srcRect l="49386" t="37464" r="35813" b="47021"/>
          <a:stretch/>
        </p:blipFill>
        <p:spPr>
          <a:xfrm>
            <a:off x="5508720" y="5229360"/>
            <a:ext cx="1368360" cy="107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3" name="Text Box 40"/>
          <p:cNvSpPr/>
          <p:nvPr/>
        </p:nvSpPr>
        <p:spPr>
          <a:xfrm>
            <a:off x="5076720" y="1773360"/>
            <a:ext cx="352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Non-parametric pattern classific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Consider a two class problem where each sample consists of two measurements (</a:t>
            </a:r>
            <a:r>
              <a:rPr b="0" i="1" lang="en-GB" sz="1800" spc="-1" strike="noStrike">
                <a:solidFill>
                  <a:srgbClr val="336666"/>
                </a:solidFill>
                <a:latin typeface="Arial"/>
              </a:rPr>
              <a:t>x,y</a:t>
            </a: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4717080" y="393372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6666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Text Box 43"/>
          <p:cNvSpPr/>
          <p:nvPr/>
        </p:nvSpPr>
        <p:spPr>
          <a:xfrm>
            <a:off x="4717080" y="52293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6666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 =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44"/>
          <p:cNvSpPr/>
          <p:nvPr/>
        </p:nvSpPr>
        <p:spPr>
          <a:xfrm>
            <a:off x="1547640" y="39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For a given query point q, assign the class of the nearest neighbou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45"/>
          <p:cNvSpPr/>
          <p:nvPr/>
        </p:nvSpPr>
        <p:spPr>
          <a:xfrm>
            <a:off x="1547640" y="5229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Compute the </a:t>
            </a:r>
            <a:r>
              <a:rPr b="0" i="1" lang="en-GB" sz="1800" spc="-1" strike="noStrike">
                <a:solidFill>
                  <a:srgbClr val="336666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 nearest neighbours and assign the class by majority vote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13D-5AE7-421D-A294-E7231B0567A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5438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Definition of Nearest Neigh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3"/>
          <p:cNvGraphicFramePr/>
          <p:nvPr/>
        </p:nvGraphicFramePr>
        <p:xfrm>
          <a:off x="533520" y="1600200"/>
          <a:ext cx="784836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84836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"/>
          <p:cNvSpPr/>
          <p:nvPr/>
        </p:nvSpPr>
        <p:spPr>
          <a:xfrm>
            <a:off x="762120" y="52578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K-nearest neighbors of a record x are data points that have the k smallest distance to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D11-BF7E-4378-BD67-4C8F911C332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Nearest-Neighbor Class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029200" y="1249200"/>
            <a:ext cx="3962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three thing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t of stored record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 Metric to compute distance between record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ue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the number of nearest neighbors to retriev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lassify an unknown record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 distance to other training record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arest neighbor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lass labels of nearest neighbors to determine the class label of unknown record (e.g., by taking majority vot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457200" y="1219320"/>
          <a:ext cx="4316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316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181-C7C7-4952-B919-41A8BB9B997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5438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Nearest Neighbor Cla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distance between two poi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clidean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the class from nearest neighbor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majority vote of class labels among the k-neares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 the vote according to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factor, w = 1/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828800" y="2743200"/>
                <a:ext cx="4876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2" name="Slide Number Placeholder 1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4B05-F229-4E6A-9D3F-C9460C760F6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smat</cp:lastModifiedBy>
  <dcterms:modified xsi:type="dcterms:W3CDTF">2024-10-19T21:04:5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