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9.png" ContentType="image/png"/>
  <Override PartName="/ppt/media/image4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23.jpeg" ContentType="image/jpeg"/>
  <Override PartName="/ppt/media/image7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0.png" ContentType="image/png"/>
  <Override PartName="/ppt/media/image27.png" ContentType="image/png"/>
  <Override PartName="/ppt/media/image39.png" ContentType="image/png"/>
  <Override PartName="/ppt/media/image22.jpeg" ContentType="image/jpeg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29.png" ContentType="image/png"/>
  <Override PartName="/ppt/media/image57.png" ContentType="image/png"/>
  <Override PartName="/ppt/media/image2.wmf" ContentType="image/x-wmf"/>
  <Override PartName="/ppt/media/image28.png" ContentType="image/png"/>
  <Override PartName="/ppt/media/image6.wmf" ContentType="image/x-wmf"/>
  <Override PartName="/ppt/media/image61.png" ContentType="image/png"/>
  <Override PartName="/ppt/media/image24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20.jpeg" ContentType="image/jpeg"/>
  <Override PartName="/ppt/media/image55.png" ContentType="image/png"/>
  <Override PartName="/ppt/media/image1.wmf" ContentType="image/x-wmf"/>
  <Override PartName="/ppt/media/image5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59E-DB18-4164-9C2F-D448256CA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79E-9ACF-4E6E-ADD3-735D56F2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562-35BB-46C6-BE64-878CBF60A0D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19B-704E-447E-8E3A-5CF392C99D8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A1DC-3527-4EB0-8E7E-85ED0E3A5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3647-C8B1-4A27-BC58-99E0E9E2E7F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999A-E5AD-4C59-888B-6F9F7F9626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152-2634-4626-8BD2-62C6C20A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5E0-A7B2-4FAA-B05B-CDA16F5E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605-18B8-4B43-A68A-4889AB90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AB9-A0F2-4797-86AF-E44A78CB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6D0-A7A0-42D9-A638-D6CF10606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A7D-3871-4CDE-A4AC-9BF86B23627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B Nazan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4AAC-BCAD-4CB3-9D9F-1C4B7DF93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458F-0094-490D-8A1A-DCB81B494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FBD-FD00-4AFC-8E26-A22EFE7A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FCD-F041-4982-B8E2-13DF19FA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D9D-D4FA-4658-B2C6-E8631CBB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F8A-1A1C-4BC8-81D5-250DB08C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8ED0-ED45-42E6-9519-1FA2DF17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A5A3-5852-4567-88BF-3BB565F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D526-C74E-46A6-AF73-5C73FBD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E79-2E51-42D9-9512-97BA4298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BA74-DA37-4799-A4AA-9F1FEAB4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747-8B06-4E27-9B21-D509097D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1E6-FB2C-4473-9B5D-82EB8C3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BDA-5DF9-4ABC-B975-621152E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DF18-636F-4713-A560-0592AD1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D74C-0912-4E67-9187-04C496B8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562C-527F-46D4-85EA-4299D41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9268-01FB-4C3E-8CA3-6F318ED9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999-91CC-4421-BB33-5F4BC173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9B6-D3BE-4115-B4DB-6E0076C6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BF1-DA5E-42A1-B07D-87448FE6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51F-4EE8-4E50-98E1-05C54BC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C6D-906A-4314-9210-589D3646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06-6C8A-4630-AE78-F9D1B5F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466-BD35-42AC-A86E-50BF30D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0BD-6B56-4C69-B18A-CE64F76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10B-BC08-4C97-B497-D663BEEF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DD6B-88F3-46E2-8B35-AEBB30D11E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نام خد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هوال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2592720" cy="2101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7"/>
          <p:cNvSpPr/>
          <p:nvPr/>
        </p:nvSpPr>
        <p:spPr>
          <a:xfrm>
            <a:off x="2986200" y="4005360"/>
            <a:ext cx="2520720" cy="1728720"/>
          </a:xfrm>
          <a:prstGeom prst="wedgeRectCallout">
            <a:avLst>
              <a:gd name="adj1" fmla="val -41060"/>
              <a:gd name="adj2" fmla="val 129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2266920" y="4005360"/>
            <a:ext cx="3313080" cy="2448000"/>
          </a:xfrm>
          <a:prstGeom prst="wedgeRectCallout">
            <a:avLst>
              <a:gd name="adj1" fmla="val -36199"/>
              <a:gd name="adj2" fmla="val -11699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2340000" y="4078440"/>
            <a:ext cx="316692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3"/>
          <p:cNvGrpSpPr/>
          <p:nvPr/>
        </p:nvGrpSpPr>
        <p:grpSpPr>
          <a:xfrm>
            <a:off x="4495680" y="1447920"/>
            <a:ext cx="2484720" cy="1752840"/>
            <a:chOff x="4495680" y="1447920"/>
            <a:chExt cx="2484720" cy="1752840"/>
          </a:xfrm>
        </p:grpSpPr>
        <p:sp>
          <p:nvSpPr>
            <p:cNvPr id="166" name="AutoShape 11"/>
            <p:cNvSpPr/>
            <p:nvPr/>
          </p:nvSpPr>
          <p:spPr>
            <a:xfrm>
              <a:off x="4495680" y="1447920"/>
              <a:ext cx="2484720" cy="16570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746600" y="1735200"/>
              <a:ext cx="1730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18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غز انسان از حجم عظيمی از اتصالات نرونها تشکیل شده است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1042920" cy="12096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3"/>
          <p:cNvSpPr/>
          <p:nvPr/>
        </p:nvSpPr>
        <p:spPr>
          <a:xfrm>
            <a:off x="6156360" y="3573360"/>
            <a:ext cx="2592360" cy="1368360"/>
          </a:xfrm>
          <a:prstGeom prst="wedgeEllipseCallout">
            <a:avLst>
              <a:gd name="adj1" fmla="val -101624"/>
              <a:gd name="adj2" fmla="val 4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بیولوژی مغ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مغ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D9E-46E4-490C-B1B4-8D5C03593E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8BE9-222F-4DDD-BD21-DE71425DA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36"/>
          <p:cNvGrpSpPr/>
          <p:nvPr/>
        </p:nvGrpSpPr>
        <p:grpSpPr>
          <a:xfrm>
            <a:off x="4025880" y="2852640"/>
            <a:ext cx="5010120" cy="3960720"/>
            <a:chOff x="4025880" y="2852640"/>
            <a:chExt cx="5010120" cy="3960720"/>
          </a:xfrm>
        </p:grpSpPr>
        <p:sp>
          <p:nvSpPr>
            <p:cNvPr id="174" name="Text Box 88"/>
            <p:cNvSpPr/>
            <p:nvPr/>
          </p:nvSpPr>
          <p:spPr>
            <a:xfrm>
              <a:off x="4714920" y="58784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دل شماتيک نر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5089680" y="3859200"/>
              <a:ext cx="2539800" cy="2235240"/>
            </a:xfrm>
            <a:custGeom>
              <a:avLst/>
              <a:gdLst>
                <a:gd name="textAreaLeft" fmla="*/ 0 w 2539800"/>
                <a:gd name="textAreaRight" fmla="*/ 2540160 w 2539800"/>
                <a:gd name="textAreaTop" fmla="*/ 0 h 2235240"/>
                <a:gd name="textAreaBottom" fmla="*/ 2235600 h 2235240"/>
              </a:gdLst>
              <a:ahLst/>
              <a:rect l="textAreaLeft" t="textAreaTop" r="textAreaRight" b="textAreaBottom"/>
              <a:pathLst>
                <a:path w="4752" h="3984">
                  <a:moveTo>
                    <a:pt x="0" y="1200"/>
                  </a:moveTo>
                  <a:cubicBezTo>
                    <a:pt x="0" y="1200"/>
                    <a:pt x="72" y="1296"/>
                    <a:pt x="144" y="1344"/>
                  </a:cubicBezTo>
                  <a:cubicBezTo>
                    <a:pt x="216" y="1392"/>
                    <a:pt x="312" y="1464"/>
                    <a:pt x="432" y="1488"/>
                  </a:cubicBezTo>
                  <a:cubicBezTo>
                    <a:pt x="552" y="1512"/>
                    <a:pt x="744" y="1512"/>
                    <a:pt x="864" y="1488"/>
                  </a:cubicBezTo>
                  <a:cubicBezTo>
                    <a:pt x="984" y="1464"/>
                    <a:pt x="1080" y="1440"/>
                    <a:pt x="1152" y="1344"/>
                  </a:cubicBezTo>
                  <a:cubicBezTo>
                    <a:pt x="1224" y="1248"/>
                    <a:pt x="1296" y="1056"/>
                    <a:pt x="1296" y="912"/>
                  </a:cubicBezTo>
                  <a:cubicBezTo>
                    <a:pt x="1296" y="768"/>
                    <a:pt x="1200" y="624"/>
                    <a:pt x="1152" y="480"/>
                  </a:cubicBezTo>
                  <a:cubicBezTo>
                    <a:pt x="1104" y="336"/>
                    <a:pt x="1032" y="96"/>
                    <a:pt x="1008" y="48"/>
                  </a:cubicBezTo>
                  <a:cubicBezTo>
                    <a:pt x="984" y="0"/>
                    <a:pt x="1008" y="192"/>
                    <a:pt x="1008" y="192"/>
                  </a:cubicBezTo>
                  <a:cubicBezTo>
                    <a:pt x="1008" y="192"/>
                    <a:pt x="984" y="24"/>
                    <a:pt x="1008" y="48"/>
                  </a:cubicBezTo>
                  <a:cubicBezTo>
                    <a:pt x="1032" y="72"/>
                    <a:pt x="1104" y="240"/>
                    <a:pt x="1152" y="336"/>
                  </a:cubicBezTo>
                  <a:cubicBezTo>
                    <a:pt x="1200" y="432"/>
                    <a:pt x="1248" y="528"/>
                    <a:pt x="1296" y="624"/>
                  </a:cubicBezTo>
                  <a:cubicBezTo>
                    <a:pt x="1344" y="720"/>
                    <a:pt x="1416" y="840"/>
                    <a:pt x="1440" y="912"/>
                  </a:cubicBezTo>
                  <a:cubicBezTo>
                    <a:pt x="1464" y="984"/>
                    <a:pt x="1416" y="984"/>
                    <a:pt x="1440" y="1056"/>
                  </a:cubicBezTo>
                  <a:cubicBezTo>
                    <a:pt x="1464" y="1128"/>
                    <a:pt x="1512" y="1296"/>
                    <a:pt x="1584" y="1344"/>
                  </a:cubicBezTo>
                  <a:cubicBezTo>
                    <a:pt x="1656" y="1392"/>
                    <a:pt x="1800" y="1344"/>
                    <a:pt x="1872" y="1344"/>
                  </a:cubicBezTo>
                  <a:cubicBezTo>
                    <a:pt x="1944" y="1344"/>
                    <a:pt x="1920" y="1320"/>
                    <a:pt x="2016" y="1344"/>
                  </a:cubicBezTo>
                  <a:cubicBezTo>
                    <a:pt x="2112" y="1368"/>
                    <a:pt x="2352" y="1416"/>
                    <a:pt x="2448" y="1488"/>
                  </a:cubicBezTo>
                  <a:cubicBezTo>
                    <a:pt x="2544" y="1560"/>
                    <a:pt x="2520" y="1632"/>
                    <a:pt x="2592" y="1776"/>
                  </a:cubicBezTo>
                  <a:cubicBezTo>
                    <a:pt x="2664" y="1920"/>
                    <a:pt x="2784" y="2208"/>
                    <a:pt x="2880" y="2352"/>
                  </a:cubicBezTo>
                  <a:cubicBezTo>
                    <a:pt x="2976" y="2496"/>
                    <a:pt x="3048" y="2544"/>
                    <a:pt x="3168" y="2640"/>
                  </a:cubicBezTo>
                  <a:cubicBezTo>
                    <a:pt x="3288" y="2736"/>
                    <a:pt x="3456" y="2856"/>
                    <a:pt x="3600" y="2928"/>
                  </a:cubicBezTo>
                  <a:cubicBezTo>
                    <a:pt x="3744" y="3000"/>
                    <a:pt x="3888" y="3000"/>
                    <a:pt x="4032" y="3072"/>
                  </a:cubicBezTo>
                  <a:cubicBezTo>
                    <a:pt x="4176" y="3144"/>
                    <a:pt x="4344" y="3216"/>
                    <a:pt x="4464" y="3360"/>
                  </a:cubicBezTo>
                  <a:cubicBezTo>
                    <a:pt x="4584" y="3504"/>
                    <a:pt x="4752" y="3888"/>
                    <a:pt x="4752" y="3936"/>
                  </a:cubicBezTo>
                  <a:cubicBezTo>
                    <a:pt x="4752" y="3984"/>
                    <a:pt x="4536" y="3744"/>
                    <a:pt x="4464" y="3648"/>
                  </a:cubicBezTo>
                  <a:cubicBezTo>
                    <a:pt x="4392" y="3552"/>
                    <a:pt x="4392" y="3432"/>
                    <a:pt x="4320" y="3360"/>
                  </a:cubicBezTo>
                  <a:cubicBezTo>
                    <a:pt x="4248" y="3288"/>
                    <a:pt x="4128" y="3240"/>
                    <a:pt x="4032" y="3216"/>
                  </a:cubicBezTo>
                  <a:cubicBezTo>
                    <a:pt x="3936" y="3192"/>
                    <a:pt x="3864" y="3240"/>
                    <a:pt x="3744" y="3216"/>
                  </a:cubicBezTo>
                  <a:cubicBezTo>
                    <a:pt x="3624" y="3192"/>
                    <a:pt x="3432" y="3120"/>
                    <a:pt x="3312" y="3072"/>
                  </a:cubicBezTo>
                  <a:cubicBezTo>
                    <a:pt x="3192" y="3024"/>
                    <a:pt x="3120" y="3000"/>
                    <a:pt x="3024" y="2928"/>
                  </a:cubicBezTo>
                  <a:cubicBezTo>
                    <a:pt x="2928" y="2856"/>
                    <a:pt x="2808" y="2736"/>
                    <a:pt x="2736" y="2640"/>
                  </a:cubicBezTo>
                  <a:cubicBezTo>
                    <a:pt x="2664" y="2544"/>
                    <a:pt x="2640" y="2424"/>
                    <a:pt x="2592" y="2352"/>
                  </a:cubicBezTo>
                  <a:cubicBezTo>
                    <a:pt x="2544" y="2280"/>
                    <a:pt x="2520" y="2304"/>
                    <a:pt x="2448" y="2208"/>
                  </a:cubicBezTo>
                  <a:cubicBezTo>
                    <a:pt x="2376" y="2112"/>
                    <a:pt x="2256" y="1824"/>
                    <a:pt x="2160" y="1776"/>
                  </a:cubicBezTo>
                  <a:cubicBezTo>
                    <a:pt x="2064" y="1728"/>
                    <a:pt x="1944" y="1848"/>
                    <a:pt x="1872" y="1920"/>
                  </a:cubicBezTo>
                  <a:cubicBezTo>
                    <a:pt x="1800" y="1992"/>
                    <a:pt x="1728" y="2088"/>
                    <a:pt x="1728" y="2208"/>
                  </a:cubicBezTo>
                  <a:cubicBezTo>
                    <a:pt x="1728" y="2328"/>
                    <a:pt x="1824" y="2520"/>
                    <a:pt x="1872" y="2640"/>
                  </a:cubicBezTo>
                  <a:cubicBezTo>
                    <a:pt x="1920" y="2760"/>
                    <a:pt x="2016" y="2904"/>
                    <a:pt x="2016" y="2928"/>
                  </a:cubicBezTo>
                  <a:cubicBezTo>
                    <a:pt x="2016" y="2952"/>
                    <a:pt x="1944" y="2880"/>
                    <a:pt x="1872" y="2784"/>
                  </a:cubicBezTo>
                  <a:cubicBezTo>
                    <a:pt x="1800" y="2688"/>
                    <a:pt x="1656" y="2448"/>
                    <a:pt x="1584" y="2352"/>
                  </a:cubicBezTo>
                  <a:cubicBezTo>
                    <a:pt x="1512" y="2256"/>
                    <a:pt x="1488" y="2232"/>
                    <a:pt x="1440" y="2208"/>
                  </a:cubicBezTo>
                  <a:cubicBezTo>
                    <a:pt x="1392" y="2184"/>
                    <a:pt x="1344" y="2184"/>
                    <a:pt x="1296" y="2208"/>
                  </a:cubicBezTo>
                  <a:cubicBezTo>
                    <a:pt x="1248" y="2232"/>
                    <a:pt x="1200" y="2328"/>
                    <a:pt x="1152" y="2352"/>
                  </a:cubicBezTo>
                  <a:cubicBezTo>
                    <a:pt x="1104" y="2376"/>
                    <a:pt x="1056" y="2400"/>
                    <a:pt x="1008" y="2352"/>
                  </a:cubicBezTo>
                  <a:cubicBezTo>
                    <a:pt x="960" y="2304"/>
                    <a:pt x="888" y="2160"/>
                    <a:pt x="864" y="2064"/>
                  </a:cubicBezTo>
                  <a:cubicBezTo>
                    <a:pt x="840" y="1968"/>
                    <a:pt x="912" y="1848"/>
                    <a:pt x="864" y="1776"/>
                  </a:cubicBezTo>
                  <a:cubicBezTo>
                    <a:pt x="816" y="1704"/>
                    <a:pt x="672" y="1680"/>
                    <a:pt x="576" y="1632"/>
                  </a:cubicBezTo>
                  <a:cubicBezTo>
                    <a:pt x="480" y="1584"/>
                    <a:pt x="360" y="1536"/>
                    <a:pt x="288" y="1488"/>
                  </a:cubicBezTo>
                  <a:cubicBezTo>
                    <a:pt x="216" y="1440"/>
                    <a:pt x="192" y="1392"/>
                    <a:pt x="144" y="1344"/>
                  </a:cubicBezTo>
                  <a:cubicBezTo>
                    <a:pt x="96" y="1296"/>
                    <a:pt x="0" y="1200"/>
                    <a:pt x="0" y="12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90"/>
            <p:cNvSpPr/>
            <p:nvPr/>
          </p:nvSpPr>
          <p:spPr>
            <a:xfrm>
              <a:off x="5686560" y="4678200"/>
              <a:ext cx="25056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7236000" y="6057720"/>
              <a:ext cx="403200" cy="6112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96" h="1008">
                  <a:moveTo>
                    <a:pt x="648" y="0"/>
                  </a:moveTo>
                  <a:cubicBezTo>
                    <a:pt x="648" y="0"/>
                    <a:pt x="696" y="192"/>
                    <a:pt x="648" y="288"/>
                  </a:cubicBezTo>
                  <a:cubicBezTo>
                    <a:pt x="600" y="384"/>
                    <a:pt x="456" y="504"/>
                    <a:pt x="360" y="576"/>
                  </a:cubicBezTo>
                  <a:cubicBezTo>
                    <a:pt x="264" y="648"/>
                    <a:pt x="120" y="648"/>
                    <a:pt x="72" y="720"/>
                  </a:cubicBezTo>
                  <a:cubicBezTo>
                    <a:pt x="24" y="792"/>
                    <a:pt x="72" y="1008"/>
                    <a:pt x="72" y="1008"/>
                  </a:cubicBezTo>
                  <a:cubicBezTo>
                    <a:pt x="72" y="1008"/>
                    <a:pt x="0" y="816"/>
                    <a:pt x="72" y="720"/>
                  </a:cubicBezTo>
                  <a:cubicBezTo>
                    <a:pt x="144" y="624"/>
                    <a:pt x="408" y="504"/>
                    <a:pt x="504" y="432"/>
                  </a:cubicBezTo>
                  <a:cubicBezTo>
                    <a:pt x="600" y="360"/>
                    <a:pt x="624" y="360"/>
                    <a:pt x="648" y="288"/>
                  </a:cubicBezTo>
                  <a:cubicBezTo>
                    <a:pt x="672" y="216"/>
                    <a:pt x="648" y="0"/>
                    <a:pt x="64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2"/>
            <p:cNvSpPr/>
            <p:nvPr/>
          </p:nvSpPr>
          <p:spPr>
            <a:xfrm>
              <a:off x="7515360" y="5817960"/>
              <a:ext cx="1098360" cy="276480"/>
            </a:xfrm>
            <a:custGeom>
              <a:avLst/>
              <a:gdLst>
                <a:gd name="textAreaLeft" fmla="*/ 0 w 1098360"/>
                <a:gd name="textAreaRight" fmla="*/ 1098720 w 1098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896" h="456">
                  <a:moveTo>
                    <a:pt x="0" y="168"/>
                  </a:moveTo>
                  <a:cubicBezTo>
                    <a:pt x="84" y="228"/>
                    <a:pt x="168" y="288"/>
                    <a:pt x="288" y="312"/>
                  </a:cubicBezTo>
                  <a:cubicBezTo>
                    <a:pt x="408" y="336"/>
                    <a:pt x="624" y="336"/>
                    <a:pt x="720" y="312"/>
                  </a:cubicBezTo>
                  <a:cubicBezTo>
                    <a:pt x="816" y="288"/>
                    <a:pt x="744" y="216"/>
                    <a:pt x="864" y="168"/>
                  </a:cubicBezTo>
                  <a:cubicBezTo>
                    <a:pt x="984" y="120"/>
                    <a:pt x="1272" y="0"/>
                    <a:pt x="1440" y="24"/>
                  </a:cubicBezTo>
                  <a:cubicBezTo>
                    <a:pt x="1608" y="48"/>
                    <a:pt x="1848" y="288"/>
                    <a:pt x="1872" y="312"/>
                  </a:cubicBezTo>
                  <a:cubicBezTo>
                    <a:pt x="1896" y="336"/>
                    <a:pt x="1656" y="216"/>
                    <a:pt x="1584" y="168"/>
                  </a:cubicBezTo>
                  <a:cubicBezTo>
                    <a:pt x="1512" y="120"/>
                    <a:pt x="1536" y="24"/>
                    <a:pt x="1440" y="24"/>
                  </a:cubicBezTo>
                  <a:cubicBezTo>
                    <a:pt x="1344" y="24"/>
                    <a:pt x="1104" y="120"/>
                    <a:pt x="1008" y="168"/>
                  </a:cubicBezTo>
                  <a:cubicBezTo>
                    <a:pt x="912" y="216"/>
                    <a:pt x="960" y="264"/>
                    <a:pt x="864" y="312"/>
                  </a:cubicBezTo>
                  <a:cubicBezTo>
                    <a:pt x="768" y="360"/>
                    <a:pt x="528" y="456"/>
                    <a:pt x="432" y="456"/>
                  </a:cubicBezTo>
                  <a:cubicBezTo>
                    <a:pt x="336" y="456"/>
                    <a:pt x="336" y="312"/>
                    <a:pt x="288" y="312"/>
                  </a:cubicBezTo>
                  <a:cubicBezTo>
                    <a:pt x="240" y="312"/>
                    <a:pt x="192" y="384"/>
                    <a:pt x="144" y="456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3"/>
            <p:cNvSpPr/>
            <p:nvPr/>
          </p:nvSpPr>
          <p:spPr>
            <a:xfrm>
              <a:off x="5840280" y="3693960"/>
              <a:ext cx="403560" cy="6112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96" h="1008">
                  <a:moveTo>
                    <a:pt x="648" y="0"/>
                  </a:moveTo>
                  <a:cubicBezTo>
                    <a:pt x="648" y="0"/>
                    <a:pt x="696" y="192"/>
                    <a:pt x="648" y="288"/>
                  </a:cubicBezTo>
                  <a:cubicBezTo>
                    <a:pt x="600" y="384"/>
                    <a:pt x="456" y="504"/>
                    <a:pt x="360" y="576"/>
                  </a:cubicBezTo>
                  <a:cubicBezTo>
                    <a:pt x="264" y="648"/>
                    <a:pt x="120" y="648"/>
                    <a:pt x="72" y="720"/>
                  </a:cubicBezTo>
                  <a:cubicBezTo>
                    <a:pt x="24" y="792"/>
                    <a:pt x="72" y="1008"/>
                    <a:pt x="72" y="1008"/>
                  </a:cubicBezTo>
                  <a:cubicBezTo>
                    <a:pt x="72" y="1008"/>
                    <a:pt x="0" y="816"/>
                    <a:pt x="72" y="720"/>
                  </a:cubicBezTo>
                  <a:cubicBezTo>
                    <a:pt x="144" y="624"/>
                    <a:pt x="408" y="504"/>
                    <a:pt x="504" y="432"/>
                  </a:cubicBezTo>
                  <a:cubicBezTo>
                    <a:pt x="600" y="360"/>
                    <a:pt x="624" y="360"/>
                    <a:pt x="648" y="288"/>
                  </a:cubicBezTo>
                  <a:cubicBezTo>
                    <a:pt x="672" y="216"/>
                    <a:pt x="648" y="0"/>
                    <a:pt x="648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4756320" y="4000320"/>
              <a:ext cx="333360" cy="5382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576" h="888">
                  <a:moveTo>
                    <a:pt x="576" y="888"/>
                  </a:moveTo>
                  <a:cubicBezTo>
                    <a:pt x="516" y="864"/>
                    <a:pt x="456" y="840"/>
                    <a:pt x="432" y="744"/>
                  </a:cubicBezTo>
                  <a:cubicBezTo>
                    <a:pt x="408" y="648"/>
                    <a:pt x="456" y="432"/>
                    <a:pt x="432" y="312"/>
                  </a:cubicBezTo>
                  <a:cubicBezTo>
                    <a:pt x="408" y="192"/>
                    <a:pt x="360" y="48"/>
                    <a:pt x="288" y="24"/>
                  </a:cubicBezTo>
                  <a:cubicBezTo>
                    <a:pt x="216" y="0"/>
                    <a:pt x="48" y="144"/>
                    <a:pt x="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4589640" y="4284720"/>
              <a:ext cx="415800" cy="1886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720" h="312">
                  <a:moveTo>
                    <a:pt x="720" y="0"/>
                  </a:moveTo>
                  <a:cubicBezTo>
                    <a:pt x="672" y="132"/>
                    <a:pt x="624" y="264"/>
                    <a:pt x="576" y="288"/>
                  </a:cubicBezTo>
                  <a:cubicBezTo>
                    <a:pt x="528" y="312"/>
                    <a:pt x="504" y="144"/>
                    <a:pt x="432" y="144"/>
                  </a:cubicBezTo>
                  <a:cubicBezTo>
                    <a:pt x="360" y="144"/>
                    <a:pt x="216" y="312"/>
                    <a:pt x="144" y="288"/>
                  </a:cubicBezTo>
                  <a:cubicBezTo>
                    <a:pt x="72" y="264"/>
                    <a:pt x="36" y="1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5659560" y="3628800"/>
              <a:ext cx="514440" cy="3636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888" h="600">
                  <a:moveTo>
                    <a:pt x="24" y="600"/>
                  </a:moveTo>
                  <a:cubicBezTo>
                    <a:pt x="12" y="504"/>
                    <a:pt x="0" y="408"/>
                    <a:pt x="24" y="312"/>
                  </a:cubicBezTo>
                  <a:cubicBezTo>
                    <a:pt x="48" y="216"/>
                    <a:pt x="120" y="48"/>
                    <a:pt x="168" y="24"/>
                  </a:cubicBezTo>
                  <a:cubicBezTo>
                    <a:pt x="216" y="0"/>
                    <a:pt x="240" y="168"/>
                    <a:pt x="312" y="168"/>
                  </a:cubicBezTo>
                  <a:cubicBezTo>
                    <a:pt x="384" y="168"/>
                    <a:pt x="504" y="24"/>
                    <a:pt x="600" y="24"/>
                  </a:cubicBezTo>
                  <a:cubicBezTo>
                    <a:pt x="696" y="24"/>
                    <a:pt x="792" y="96"/>
                    <a:pt x="888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97"/>
            <p:cNvSpPr/>
            <p:nvPr/>
          </p:nvSpPr>
          <p:spPr>
            <a:xfrm>
              <a:off x="6174000" y="3801960"/>
              <a:ext cx="838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4923000" y="3357360"/>
              <a:ext cx="1584360" cy="714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84" h="1176">
                  <a:moveTo>
                    <a:pt x="2784" y="24"/>
                  </a:moveTo>
                  <a:cubicBezTo>
                    <a:pt x="2748" y="144"/>
                    <a:pt x="2712" y="264"/>
                    <a:pt x="2640" y="312"/>
                  </a:cubicBezTo>
                  <a:cubicBezTo>
                    <a:pt x="2568" y="360"/>
                    <a:pt x="2472" y="360"/>
                    <a:pt x="2352" y="312"/>
                  </a:cubicBezTo>
                  <a:cubicBezTo>
                    <a:pt x="2232" y="264"/>
                    <a:pt x="2112" y="48"/>
                    <a:pt x="1920" y="24"/>
                  </a:cubicBezTo>
                  <a:cubicBezTo>
                    <a:pt x="1728" y="0"/>
                    <a:pt x="1320" y="72"/>
                    <a:pt x="1200" y="168"/>
                  </a:cubicBezTo>
                  <a:cubicBezTo>
                    <a:pt x="1080" y="264"/>
                    <a:pt x="1368" y="600"/>
                    <a:pt x="1200" y="600"/>
                  </a:cubicBezTo>
                  <a:cubicBezTo>
                    <a:pt x="1032" y="600"/>
                    <a:pt x="384" y="72"/>
                    <a:pt x="192" y="168"/>
                  </a:cubicBezTo>
                  <a:cubicBezTo>
                    <a:pt x="0" y="264"/>
                    <a:pt x="24" y="720"/>
                    <a:pt x="48" y="1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99"/>
            <p:cNvSpPr/>
            <p:nvPr/>
          </p:nvSpPr>
          <p:spPr>
            <a:xfrm>
              <a:off x="4923000" y="4035240"/>
              <a:ext cx="8244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8315280" y="5940360"/>
              <a:ext cx="389160" cy="8730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672" h="1440">
                  <a:moveTo>
                    <a:pt x="504" y="0"/>
                  </a:moveTo>
                  <a:cubicBezTo>
                    <a:pt x="420" y="108"/>
                    <a:pt x="336" y="216"/>
                    <a:pt x="360" y="288"/>
                  </a:cubicBezTo>
                  <a:cubicBezTo>
                    <a:pt x="384" y="360"/>
                    <a:pt x="624" y="336"/>
                    <a:pt x="648" y="432"/>
                  </a:cubicBezTo>
                  <a:cubicBezTo>
                    <a:pt x="672" y="528"/>
                    <a:pt x="600" y="768"/>
                    <a:pt x="504" y="864"/>
                  </a:cubicBezTo>
                  <a:cubicBezTo>
                    <a:pt x="408" y="960"/>
                    <a:pt x="144" y="912"/>
                    <a:pt x="72" y="1008"/>
                  </a:cubicBezTo>
                  <a:cubicBezTo>
                    <a:pt x="0" y="1104"/>
                    <a:pt x="36" y="1272"/>
                    <a:pt x="7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1"/>
            <p:cNvSpPr/>
            <p:nvPr/>
          </p:nvSpPr>
          <p:spPr>
            <a:xfrm>
              <a:off x="6507360" y="3321000"/>
              <a:ext cx="2211120" cy="931680"/>
            </a:xfrm>
            <a:custGeom>
              <a:avLst/>
              <a:gdLst>
                <a:gd name="textAreaLeft" fmla="*/ 0 w 2211120"/>
                <a:gd name="textAreaRight" fmla="*/ 2211480 w 221112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3816" h="1536">
                  <a:moveTo>
                    <a:pt x="0" y="48"/>
                  </a:moveTo>
                  <a:cubicBezTo>
                    <a:pt x="0" y="48"/>
                    <a:pt x="48" y="0"/>
                    <a:pt x="144" y="48"/>
                  </a:cubicBezTo>
                  <a:cubicBezTo>
                    <a:pt x="240" y="96"/>
                    <a:pt x="432" y="192"/>
                    <a:pt x="576" y="336"/>
                  </a:cubicBezTo>
                  <a:cubicBezTo>
                    <a:pt x="720" y="480"/>
                    <a:pt x="816" y="744"/>
                    <a:pt x="1008" y="912"/>
                  </a:cubicBezTo>
                  <a:cubicBezTo>
                    <a:pt x="1200" y="1080"/>
                    <a:pt x="1440" y="1272"/>
                    <a:pt x="1728" y="1344"/>
                  </a:cubicBezTo>
                  <a:cubicBezTo>
                    <a:pt x="2016" y="1416"/>
                    <a:pt x="2448" y="1416"/>
                    <a:pt x="2736" y="1344"/>
                  </a:cubicBezTo>
                  <a:cubicBezTo>
                    <a:pt x="3024" y="1272"/>
                    <a:pt x="3288" y="936"/>
                    <a:pt x="3456" y="912"/>
                  </a:cubicBezTo>
                  <a:cubicBezTo>
                    <a:pt x="3624" y="888"/>
                    <a:pt x="3816" y="1104"/>
                    <a:pt x="3744" y="1200"/>
                  </a:cubicBezTo>
                  <a:cubicBezTo>
                    <a:pt x="3672" y="1296"/>
                    <a:pt x="3216" y="1440"/>
                    <a:pt x="3024" y="1488"/>
                  </a:cubicBezTo>
                  <a:cubicBezTo>
                    <a:pt x="2832" y="1536"/>
                    <a:pt x="2736" y="1488"/>
                    <a:pt x="2592" y="1488"/>
                  </a:cubicBezTo>
                  <a:cubicBezTo>
                    <a:pt x="2448" y="1488"/>
                    <a:pt x="2304" y="1488"/>
                    <a:pt x="2160" y="1488"/>
                  </a:cubicBezTo>
                  <a:cubicBezTo>
                    <a:pt x="2016" y="1488"/>
                    <a:pt x="1896" y="1536"/>
                    <a:pt x="1728" y="1488"/>
                  </a:cubicBezTo>
                  <a:cubicBezTo>
                    <a:pt x="1560" y="1440"/>
                    <a:pt x="1272" y="1272"/>
                    <a:pt x="1152" y="1200"/>
                  </a:cubicBezTo>
                  <a:cubicBezTo>
                    <a:pt x="1032" y="1128"/>
                    <a:pt x="1080" y="1152"/>
                    <a:pt x="1008" y="1056"/>
                  </a:cubicBezTo>
                  <a:cubicBezTo>
                    <a:pt x="936" y="960"/>
                    <a:pt x="792" y="744"/>
                    <a:pt x="720" y="624"/>
                  </a:cubicBezTo>
                  <a:cubicBezTo>
                    <a:pt x="648" y="504"/>
                    <a:pt x="624" y="408"/>
                    <a:pt x="576" y="336"/>
                  </a:cubicBezTo>
                  <a:cubicBezTo>
                    <a:pt x="528" y="264"/>
                    <a:pt x="504" y="240"/>
                    <a:pt x="432" y="192"/>
                  </a:cubicBezTo>
                  <a:cubicBezTo>
                    <a:pt x="360" y="144"/>
                    <a:pt x="216" y="72"/>
                    <a:pt x="144" y="48"/>
                  </a:cubicBezTo>
                  <a:cubicBezTo>
                    <a:pt x="72" y="24"/>
                    <a:pt x="0" y="48"/>
                    <a:pt x="0" y="48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2"/>
            <p:cNvSpPr/>
            <p:nvPr/>
          </p:nvSpPr>
          <p:spPr>
            <a:xfrm>
              <a:off x="6174000" y="3660840"/>
              <a:ext cx="833400" cy="1904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0" h="312">
                  <a:moveTo>
                    <a:pt x="0" y="144"/>
                  </a:moveTo>
                  <a:cubicBezTo>
                    <a:pt x="96" y="72"/>
                    <a:pt x="192" y="0"/>
                    <a:pt x="288" y="0"/>
                  </a:cubicBezTo>
                  <a:cubicBezTo>
                    <a:pt x="384" y="0"/>
                    <a:pt x="480" y="120"/>
                    <a:pt x="576" y="144"/>
                  </a:cubicBezTo>
                  <a:cubicBezTo>
                    <a:pt x="672" y="168"/>
                    <a:pt x="744" y="120"/>
                    <a:pt x="864" y="144"/>
                  </a:cubicBezTo>
                  <a:cubicBezTo>
                    <a:pt x="984" y="168"/>
                    <a:pt x="1200" y="264"/>
                    <a:pt x="1296" y="288"/>
                  </a:cubicBezTo>
                  <a:cubicBezTo>
                    <a:pt x="1392" y="312"/>
                    <a:pt x="1416" y="300"/>
                    <a:pt x="144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3"/>
            <p:cNvSpPr/>
            <p:nvPr/>
          </p:nvSpPr>
          <p:spPr>
            <a:xfrm>
              <a:off x="8567640" y="5759280"/>
              <a:ext cx="250920" cy="190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32" h="312">
                  <a:moveTo>
                    <a:pt x="0" y="288"/>
                  </a:moveTo>
                  <a:cubicBezTo>
                    <a:pt x="48" y="300"/>
                    <a:pt x="96" y="312"/>
                    <a:pt x="144" y="288"/>
                  </a:cubicBezTo>
                  <a:cubicBezTo>
                    <a:pt x="192" y="264"/>
                    <a:pt x="240" y="192"/>
                    <a:pt x="288" y="144"/>
                  </a:cubicBezTo>
                  <a:cubicBezTo>
                    <a:pt x="336" y="96"/>
                    <a:pt x="384" y="48"/>
                    <a:pt x="4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4"/>
            <p:cNvSpPr/>
            <p:nvPr/>
          </p:nvSpPr>
          <p:spPr>
            <a:xfrm>
              <a:off x="6154920" y="5457600"/>
              <a:ext cx="98280" cy="203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68" h="336">
                  <a:moveTo>
                    <a:pt x="24" y="0"/>
                  </a:moveTo>
                  <a:cubicBezTo>
                    <a:pt x="12" y="120"/>
                    <a:pt x="0" y="240"/>
                    <a:pt x="24" y="288"/>
                  </a:cubicBezTo>
                  <a:cubicBezTo>
                    <a:pt x="48" y="336"/>
                    <a:pt x="108" y="312"/>
                    <a:pt x="168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5"/>
            <p:cNvSpPr/>
            <p:nvPr/>
          </p:nvSpPr>
          <p:spPr>
            <a:xfrm>
              <a:off x="5794560" y="5518080"/>
              <a:ext cx="361800" cy="3492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24" h="576">
                  <a:moveTo>
                    <a:pt x="624" y="0"/>
                  </a:moveTo>
                  <a:cubicBezTo>
                    <a:pt x="576" y="132"/>
                    <a:pt x="528" y="264"/>
                    <a:pt x="480" y="288"/>
                  </a:cubicBezTo>
                  <a:cubicBezTo>
                    <a:pt x="432" y="312"/>
                    <a:pt x="408" y="144"/>
                    <a:pt x="336" y="144"/>
                  </a:cubicBezTo>
                  <a:cubicBezTo>
                    <a:pt x="264" y="144"/>
                    <a:pt x="96" y="216"/>
                    <a:pt x="48" y="288"/>
                  </a:cubicBezTo>
                  <a:cubicBezTo>
                    <a:pt x="0" y="360"/>
                    <a:pt x="24" y="468"/>
                    <a:pt x="48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6"/>
            <p:cNvSpPr/>
            <p:nvPr/>
          </p:nvSpPr>
          <p:spPr>
            <a:xfrm>
              <a:off x="6168960" y="3168720"/>
              <a:ext cx="417600" cy="1886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720" h="312">
                  <a:moveTo>
                    <a:pt x="720" y="288"/>
                  </a:moveTo>
                  <a:cubicBezTo>
                    <a:pt x="624" y="144"/>
                    <a:pt x="528" y="0"/>
                    <a:pt x="432" y="0"/>
                  </a:cubicBezTo>
                  <a:cubicBezTo>
                    <a:pt x="336" y="0"/>
                    <a:pt x="216" y="264"/>
                    <a:pt x="144" y="288"/>
                  </a:cubicBezTo>
                  <a:cubicBezTo>
                    <a:pt x="72" y="312"/>
                    <a:pt x="36" y="228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1"/>
            <p:cNvSpPr/>
            <p:nvPr/>
          </p:nvSpPr>
          <p:spPr>
            <a:xfrm>
              <a:off x="4314960" y="2852640"/>
              <a:ext cx="1028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Synap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2"/>
            <p:cNvSpPr/>
            <p:nvPr/>
          </p:nvSpPr>
          <p:spPr>
            <a:xfrm>
              <a:off x="4025880" y="5249880"/>
              <a:ext cx="1203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Dendrite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3"/>
            <p:cNvSpPr/>
            <p:nvPr/>
          </p:nvSpPr>
          <p:spPr>
            <a:xfrm>
              <a:off x="6257880" y="4064040"/>
              <a:ext cx="885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So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4"/>
            <p:cNvSpPr/>
            <p:nvPr/>
          </p:nvSpPr>
          <p:spPr>
            <a:xfrm flipV="1">
              <a:off x="5800680" y="4339800"/>
              <a:ext cx="54000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5"/>
            <p:cNvSpPr/>
            <p:nvPr/>
          </p:nvSpPr>
          <p:spPr>
            <a:xfrm>
              <a:off x="7286760" y="4929120"/>
              <a:ext cx="8348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Ax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6"/>
            <p:cNvSpPr/>
            <p:nvPr/>
          </p:nvSpPr>
          <p:spPr>
            <a:xfrm>
              <a:off x="8201160" y="4746600"/>
              <a:ext cx="834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Calibri"/>
                </a:rPr>
                <a:t>Dendrite from 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7"/>
            <p:cNvSpPr/>
            <p:nvPr/>
          </p:nvSpPr>
          <p:spPr>
            <a:xfrm>
              <a:off x="7400880" y="3297240"/>
              <a:ext cx="1168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Axon from other neu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23"/>
            <p:cNvSpPr/>
            <p:nvPr/>
          </p:nvSpPr>
          <p:spPr>
            <a:xfrm>
              <a:off x="8531280" y="5906880"/>
              <a:ext cx="8244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28"/>
            <p:cNvSpPr/>
            <p:nvPr/>
          </p:nvSpPr>
          <p:spPr>
            <a:xfrm>
              <a:off x="8602560" y="5157720"/>
              <a:ext cx="73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9"/>
            <p:cNvSpPr/>
            <p:nvPr/>
          </p:nvSpPr>
          <p:spPr>
            <a:xfrm flipH="1">
              <a:off x="6802560" y="522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0"/>
            <p:cNvSpPr/>
            <p:nvPr/>
          </p:nvSpPr>
          <p:spPr>
            <a:xfrm flipH="1">
              <a:off x="7522920" y="3789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1"/>
            <p:cNvSpPr/>
            <p:nvPr/>
          </p:nvSpPr>
          <p:spPr>
            <a:xfrm>
              <a:off x="4714920" y="3141720"/>
              <a:ext cx="287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2"/>
            <p:cNvSpPr/>
            <p:nvPr/>
          </p:nvSpPr>
          <p:spPr>
            <a:xfrm>
              <a:off x="4714920" y="3141720"/>
              <a:ext cx="151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3"/>
            <p:cNvSpPr/>
            <p:nvPr/>
          </p:nvSpPr>
          <p:spPr>
            <a:xfrm flipV="1">
              <a:off x="4354560" y="4436640"/>
              <a:ext cx="28908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4"/>
            <p:cNvSpPr/>
            <p:nvPr/>
          </p:nvSpPr>
          <p:spPr>
            <a:xfrm flipV="1">
              <a:off x="4354560" y="3717360"/>
              <a:ext cx="1152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5"/>
            <p:cNvSpPr/>
            <p:nvPr/>
          </p:nvSpPr>
          <p:spPr>
            <a:xfrm>
              <a:off x="4354560" y="5302080"/>
              <a:ext cx="180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37"/>
          <p:cNvSpPr/>
          <p:nvPr/>
        </p:nvSpPr>
        <p:spPr>
          <a:xfrm>
            <a:off x="533520" y="1447920"/>
            <a:ext cx="3435120" cy="33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بدنه سلولی: 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تحقق کارهای منطقی (پردازشگ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دندريت: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B Nazanin"/>
              </a:rPr>
              <a:t> شاخه های نرون که تحریک را از نرونهای دیگر دریافت می کنند. (ورود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آکسون: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B Nazanin"/>
              </a:rPr>
              <a:t> یک شاخه عصبی که کانال خروجی نرون است. و در انتها شاخه های زیادی دارد. (خروج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سیناپس: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B Nazanin"/>
              </a:rPr>
              <a:t> اتصال بین آکسون یک نرون و دندریت نرون دیگر. (وزن اتصالات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8" descr=""/>
          <p:cNvPicPr/>
          <p:nvPr/>
        </p:nvPicPr>
        <p:blipFill>
          <a:blip r:embed="rId4"/>
          <a:stretch/>
        </p:blipFill>
        <p:spPr>
          <a:xfrm>
            <a:off x="5364000" y="1197000"/>
            <a:ext cx="2808360" cy="17222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بیولوژیک نرو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A385-9156-4851-A71F-C8ADF907E2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0E4A-E9E3-489F-9819-D55E1995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85800" y="166320"/>
            <a:ext cx="777240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Times New Roman"/>
                <a:ea typeface="HG Mincho Light J"/>
              </a:rPr>
              <a:t>How do our brains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  <a:ea typeface="HG Mincho Light J"/>
              </a:rPr>
              <a:t>A processing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324480" cy="403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80880" y="502920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endrites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ell body: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ynaptic: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xon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28600" y="3862440"/>
            <a:ext cx="3711600" cy="1670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Neuron"/>
          <p:cNvPicPr/>
          <p:nvPr/>
        </p:nvPicPr>
        <p:blipFill>
          <a:blip r:embed="rId2"/>
          <a:stretch/>
        </p:blipFill>
        <p:spPr>
          <a:xfrm>
            <a:off x="838080" y="-76320"/>
            <a:ext cx="3471840" cy="282276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73A-5D10-4D02-919A-359C6D1E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4191120" y="2505240"/>
            <a:ext cx="44956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a-IR" sz="3600" spc="-1" strike="noStrike">
                <a:solidFill>
                  <a:srgbClr val="292929"/>
                </a:solidFill>
                <a:latin typeface="Arial"/>
                <a:cs typeface="B Nazanin"/>
              </a:rPr>
              <a:t>شبکه های عصبی </a:t>
            </a:r>
            <a:r>
              <a:rPr b="0" lang="fa-IR" sz="4000" spc="-1" strike="noStrike">
                <a:solidFill>
                  <a:srgbClr val="292929"/>
                </a:solidFill>
                <a:latin typeface="Arial"/>
                <a:ea typeface="B Nazanin"/>
              </a:rPr>
              <a:t> </a:t>
            </a:r>
            <a:r>
              <a:rPr b="0" lang="fa-IR" sz="3600" spc="-1" strike="noStrike">
                <a:solidFill>
                  <a:srgbClr val="292929"/>
                </a:solidFill>
                <a:latin typeface="Arial"/>
                <a:cs typeface="B Nazanin"/>
              </a:rPr>
              <a:t>زیستی</a:t>
            </a:r>
            <a:r>
              <a:rPr b="0" lang="fa-IR" sz="4000" spc="-1" strike="noStrike">
                <a:solidFill>
                  <a:srgbClr val="292929"/>
                </a:solidFill>
                <a:latin typeface="Arial"/>
                <a:ea typeface="B Nazani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image002"/>
          <p:cNvPicPr/>
          <p:nvPr/>
        </p:nvPicPr>
        <p:blipFill>
          <a:blip r:embed="rId1"/>
          <a:stretch/>
        </p:blipFill>
        <p:spPr>
          <a:xfrm>
            <a:off x="0" y="4222800"/>
            <a:ext cx="3914640" cy="2635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292929"/>
                </a:solidFill>
                <a:latin typeface="Arial"/>
                <a:cs typeface="B Nazanin"/>
              </a:rPr>
              <a:t>مجموعه ای بسیار عظیم از </a:t>
            </a:r>
            <a:r>
              <a:rPr b="0" lang="fa-IR" sz="2800" spc="-1" strike="noStrike">
                <a:solidFill>
                  <a:srgbClr val="0000ff"/>
                </a:solidFill>
                <a:latin typeface="Arial"/>
                <a:cs typeface="B Nazanin"/>
              </a:rPr>
              <a:t>پردازشگرهایی موازی</a:t>
            </a:r>
            <a:r>
              <a:rPr b="0" lang="fa-IR" sz="2800" spc="-1" strike="noStrike">
                <a:solidFill>
                  <a:srgbClr val="292929"/>
                </a:solidFill>
                <a:latin typeface="Arial"/>
                <a:ea typeface="B Nazanin"/>
              </a:rPr>
              <a:t> به نام نورون اند و توسط سیناپس ها اطلاعات را منتقل می کن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292929"/>
                </a:solidFill>
                <a:latin typeface="Arial"/>
                <a:cs typeface="B Nazanin"/>
              </a:rPr>
              <a:t>این شبکه ها </a:t>
            </a:r>
            <a:r>
              <a:rPr b="0" lang="fa-IR" sz="2800" spc="-1" strike="noStrike">
                <a:solidFill>
                  <a:srgbClr val="0000ff"/>
                </a:solidFill>
                <a:latin typeface="Arial"/>
                <a:cs typeface="B Nazanin"/>
              </a:rPr>
              <a:t>قادر به یادگیری</a:t>
            </a:r>
            <a:r>
              <a:rPr b="0" lang="fa-IR" sz="2800" spc="-1" strike="noStrike">
                <a:solidFill>
                  <a:srgbClr val="292929"/>
                </a:solidFill>
                <a:latin typeface="Arial"/>
                <a:ea typeface="B Nazanin"/>
              </a:rPr>
              <a:t> اند. مثلا با اعمال سوزش به سلولهای عصبی لامسه، سلولها یاد می گیرند که به طرف جسم داغ نرو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292929"/>
                </a:solidFill>
                <a:latin typeface="Arial"/>
                <a:cs typeface="B Nazanin"/>
              </a:rPr>
              <a:t>یادگیری در این سیستم ها به صورت تطبیقی صورت می گیرد، یعنی با استفاده از</a:t>
            </a:r>
            <a:r>
              <a:rPr b="0" lang="fa-IR" sz="2800" spc="-1" strike="noStrike">
                <a:solidFill>
                  <a:srgbClr val="0000ff"/>
                </a:solidFill>
                <a:latin typeface="Arial"/>
                <a:cs typeface="B Nazanin"/>
              </a:rPr>
              <a:t>مشاهدات</a:t>
            </a:r>
            <a:r>
              <a:rPr b="0" lang="fa-IR" sz="2800" spc="-1" strike="noStrike">
                <a:solidFill>
                  <a:srgbClr val="292929"/>
                </a:solidFill>
                <a:latin typeface="Arial"/>
                <a:ea typeface="B Nazanin"/>
              </a:rPr>
              <a:t> ها وزن سیناپس ها به گونه ای تغییر می کند که در صورت دادن ورودی های جدید سیستم پاسخ درستی تولید ک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893-248D-4034-ACD1-5DB3CFFB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6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776240" cy="194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77"/>
          <p:cNvSpPr/>
          <p:nvPr/>
        </p:nvSpPr>
        <p:spPr>
          <a:xfrm>
            <a:off x="2771640" y="2276640"/>
            <a:ext cx="2592360" cy="1801800"/>
          </a:xfrm>
          <a:prstGeom prst="wedgeRoundRectCallout">
            <a:avLst>
              <a:gd name="adj1" fmla="val -93722"/>
              <a:gd name="adj2" fmla="val -643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8"/>
          <p:cNvGrpSpPr/>
          <p:nvPr/>
        </p:nvGrpSpPr>
        <p:grpSpPr>
          <a:xfrm>
            <a:off x="3059280" y="2832120"/>
            <a:ext cx="1806480" cy="1028520"/>
            <a:chOff x="3059280" y="2832120"/>
            <a:chExt cx="1806480" cy="1028520"/>
          </a:xfrm>
        </p:grpSpPr>
        <p:grpSp>
          <p:nvGrpSpPr>
            <p:cNvPr id="231" name="Group 29"/>
            <p:cNvGrpSpPr/>
            <p:nvPr/>
          </p:nvGrpSpPr>
          <p:grpSpPr>
            <a:xfrm>
              <a:off x="3059280" y="2832120"/>
              <a:ext cx="914760" cy="642960"/>
              <a:chOff x="3059280" y="2832120"/>
              <a:chExt cx="914760" cy="642960"/>
            </a:xfrm>
          </p:grpSpPr>
          <p:sp>
            <p:nvSpPr>
              <p:cNvPr id="232" name="Freeform 30"/>
              <p:cNvSpPr/>
              <p:nvPr/>
            </p:nvSpPr>
            <p:spPr>
              <a:xfrm>
                <a:off x="3188160" y="2843640"/>
                <a:ext cx="337680" cy="289440"/>
              </a:xfrm>
              <a:custGeom>
                <a:avLst/>
                <a:gdLst>
                  <a:gd name="textAreaLeft" fmla="*/ 0 w 337680"/>
                  <a:gd name="textAreaRight" fmla="*/ 337680 w 33768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2640" h="2376">
                    <a:moveTo>
                      <a:pt x="312" y="624"/>
                    </a:moveTo>
                    <a:cubicBezTo>
                      <a:pt x="384" y="600"/>
                      <a:pt x="960" y="984"/>
                      <a:pt x="1176" y="912"/>
                    </a:cubicBezTo>
                    <a:cubicBezTo>
                      <a:pt x="1392" y="840"/>
                      <a:pt x="1512" y="336"/>
                      <a:pt x="1608" y="192"/>
                    </a:cubicBezTo>
                    <a:cubicBezTo>
                      <a:pt x="1704" y="48"/>
                      <a:pt x="1752" y="0"/>
                      <a:pt x="1752" y="48"/>
                    </a:cubicBezTo>
                    <a:cubicBezTo>
                      <a:pt x="1752" y="96"/>
                      <a:pt x="1632" y="336"/>
                      <a:pt x="1608" y="480"/>
                    </a:cubicBezTo>
                    <a:cubicBezTo>
                      <a:pt x="1584" y="624"/>
                      <a:pt x="1512" y="840"/>
                      <a:pt x="1608" y="912"/>
                    </a:cubicBezTo>
                    <a:cubicBezTo>
                      <a:pt x="1704" y="984"/>
                      <a:pt x="2064" y="960"/>
                      <a:pt x="2184" y="912"/>
                    </a:cubicBezTo>
                    <a:cubicBezTo>
                      <a:pt x="2304" y="864"/>
                      <a:pt x="2256" y="696"/>
                      <a:pt x="2328" y="624"/>
                    </a:cubicBezTo>
                    <a:cubicBezTo>
                      <a:pt x="2400" y="552"/>
                      <a:pt x="2592" y="432"/>
                      <a:pt x="2616" y="480"/>
                    </a:cubicBezTo>
                    <a:cubicBezTo>
                      <a:pt x="2640" y="528"/>
                      <a:pt x="2616" y="744"/>
                      <a:pt x="2472" y="912"/>
                    </a:cubicBezTo>
                    <a:cubicBezTo>
                      <a:pt x="2328" y="1080"/>
                      <a:pt x="1800" y="1272"/>
                      <a:pt x="1752" y="1488"/>
                    </a:cubicBezTo>
                    <a:cubicBezTo>
                      <a:pt x="1704" y="1704"/>
                      <a:pt x="2232" y="2160"/>
                      <a:pt x="2184" y="2208"/>
                    </a:cubicBezTo>
                    <a:cubicBezTo>
                      <a:pt x="2136" y="2256"/>
                      <a:pt x="1656" y="1848"/>
                      <a:pt x="1464" y="1776"/>
                    </a:cubicBezTo>
                    <a:cubicBezTo>
                      <a:pt x="1272" y="1704"/>
                      <a:pt x="1176" y="1680"/>
                      <a:pt x="1032" y="1776"/>
                    </a:cubicBezTo>
                    <a:cubicBezTo>
                      <a:pt x="888" y="1872"/>
                      <a:pt x="624" y="2376"/>
                      <a:pt x="600" y="2352"/>
                    </a:cubicBezTo>
                    <a:cubicBezTo>
                      <a:pt x="576" y="2328"/>
                      <a:pt x="888" y="1800"/>
                      <a:pt x="888" y="1632"/>
                    </a:cubicBezTo>
                    <a:cubicBezTo>
                      <a:pt x="888" y="1464"/>
                      <a:pt x="744" y="1344"/>
                      <a:pt x="600" y="1344"/>
                    </a:cubicBezTo>
                    <a:cubicBezTo>
                      <a:pt x="456" y="1344"/>
                      <a:pt x="0" y="1680"/>
                      <a:pt x="24" y="1632"/>
                    </a:cubicBezTo>
                    <a:cubicBezTo>
                      <a:pt x="48" y="1584"/>
                      <a:pt x="696" y="1224"/>
                      <a:pt x="744" y="1056"/>
                    </a:cubicBezTo>
                    <a:cubicBezTo>
                      <a:pt x="792" y="888"/>
                      <a:pt x="240" y="648"/>
                      <a:pt x="312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1"/>
              <p:cNvSpPr/>
              <p:nvPr/>
            </p:nvSpPr>
            <p:spPr>
              <a:xfrm>
                <a:off x="3633480" y="2867040"/>
                <a:ext cx="328320" cy="318600"/>
              </a:xfrm>
              <a:custGeom>
                <a:avLst/>
                <a:gdLst>
                  <a:gd name="textAreaLeft" fmla="*/ 0 w 328320"/>
                  <a:gd name="textAreaRight" fmla="*/ 328680 w 32832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2568" h="2616">
                    <a:moveTo>
                      <a:pt x="72" y="432"/>
                    </a:moveTo>
                    <a:cubicBezTo>
                      <a:pt x="0" y="336"/>
                      <a:pt x="600" y="792"/>
                      <a:pt x="792" y="864"/>
                    </a:cubicBezTo>
                    <a:cubicBezTo>
                      <a:pt x="984" y="936"/>
                      <a:pt x="1128" y="984"/>
                      <a:pt x="1224" y="864"/>
                    </a:cubicBezTo>
                    <a:cubicBezTo>
                      <a:pt x="1320" y="744"/>
                      <a:pt x="1296" y="288"/>
                      <a:pt x="1368" y="144"/>
                    </a:cubicBezTo>
                    <a:cubicBezTo>
                      <a:pt x="1440" y="0"/>
                      <a:pt x="1632" y="0"/>
                      <a:pt x="1656" y="0"/>
                    </a:cubicBezTo>
                    <a:cubicBezTo>
                      <a:pt x="1680" y="0"/>
                      <a:pt x="1536" y="0"/>
                      <a:pt x="1512" y="144"/>
                    </a:cubicBezTo>
                    <a:cubicBezTo>
                      <a:pt x="1488" y="288"/>
                      <a:pt x="1416" y="768"/>
                      <a:pt x="1512" y="864"/>
                    </a:cubicBezTo>
                    <a:cubicBezTo>
                      <a:pt x="1608" y="960"/>
                      <a:pt x="1920" y="720"/>
                      <a:pt x="2088" y="720"/>
                    </a:cubicBezTo>
                    <a:cubicBezTo>
                      <a:pt x="2256" y="720"/>
                      <a:pt x="2520" y="840"/>
                      <a:pt x="2520" y="864"/>
                    </a:cubicBezTo>
                    <a:cubicBezTo>
                      <a:pt x="2520" y="888"/>
                      <a:pt x="2208" y="792"/>
                      <a:pt x="2088" y="864"/>
                    </a:cubicBezTo>
                    <a:cubicBezTo>
                      <a:pt x="1968" y="936"/>
                      <a:pt x="1824" y="1152"/>
                      <a:pt x="1800" y="1296"/>
                    </a:cubicBezTo>
                    <a:cubicBezTo>
                      <a:pt x="1776" y="1440"/>
                      <a:pt x="1824" y="1608"/>
                      <a:pt x="1944" y="1728"/>
                    </a:cubicBezTo>
                    <a:cubicBezTo>
                      <a:pt x="2064" y="1848"/>
                      <a:pt x="2568" y="1992"/>
                      <a:pt x="2520" y="2016"/>
                    </a:cubicBezTo>
                    <a:cubicBezTo>
                      <a:pt x="2472" y="2040"/>
                      <a:pt x="1848" y="1848"/>
                      <a:pt x="1656" y="1872"/>
                    </a:cubicBezTo>
                    <a:cubicBezTo>
                      <a:pt x="1464" y="1896"/>
                      <a:pt x="1488" y="2040"/>
                      <a:pt x="1368" y="2160"/>
                    </a:cubicBezTo>
                    <a:cubicBezTo>
                      <a:pt x="1248" y="2280"/>
                      <a:pt x="960" y="2616"/>
                      <a:pt x="936" y="2592"/>
                    </a:cubicBezTo>
                    <a:cubicBezTo>
                      <a:pt x="912" y="2568"/>
                      <a:pt x="1176" y="2208"/>
                      <a:pt x="1224" y="2016"/>
                    </a:cubicBezTo>
                    <a:cubicBezTo>
                      <a:pt x="1272" y="1824"/>
                      <a:pt x="1416" y="1704"/>
                      <a:pt x="1224" y="1440"/>
                    </a:cubicBezTo>
                    <a:cubicBezTo>
                      <a:pt x="1032" y="1176"/>
                      <a:pt x="144" y="528"/>
                      <a:pt x="72" y="43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2"/>
              <p:cNvSpPr/>
              <p:nvPr/>
            </p:nvSpPr>
            <p:spPr>
              <a:xfrm>
                <a:off x="3430800" y="3130200"/>
                <a:ext cx="377640" cy="34488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2952" h="2832">
                    <a:moveTo>
                      <a:pt x="168" y="360"/>
                    </a:moveTo>
                    <a:cubicBezTo>
                      <a:pt x="216" y="264"/>
                      <a:pt x="576" y="960"/>
                      <a:pt x="744" y="1080"/>
                    </a:cubicBezTo>
                    <a:cubicBezTo>
                      <a:pt x="912" y="1200"/>
                      <a:pt x="1032" y="1224"/>
                      <a:pt x="1176" y="1080"/>
                    </a:cubicBezTo>
                    <a:cubicBezTo>
                      <a:pt x="1320" y="936"/>
                      <a:pt x="1488" y="384"/>
                      <a:pt x="1608" y="216"/>
                    </a:cubicBezTo>
                    <a:cubicBezTo>
                      <a:pt x="1728" y="48"/>
                      <a:pt x="1872" y="0"/>
                      <a:pt x="1896" y="72"/>
                    </a:cubicBezTo>
                    <a:cubicBezTo>
                      <a:pt x="1920" y="144"/>
                      <a:pt x="1728" y="456"/>
                      <a:pt x="1752" y="648"/>
                    </a:cubicBezTo>
                    <a:cubicBezTo>
                      <a:pt x="1776" y="840"/>
                      <a:pt x="1848" y="1152"/>
                      <a:pt x="2040" y="1224"/>
                    </a:cubicBezTo>
                    <a:cubicBezTo>
                      <a:pt x="2232" y="1296"/>
                      <a:pt x="2952" y="1008"/>
                      <a:pt x="2904" y="1080"/>
                    </a:cubicBezTo>
                    <a:cubicBezTo>
                      <a:pt x="2856" y="1152"/>
                      <a:pt x="1944" y="1512"/>
                      <a:pt x="1752" y="1656"/>
                    </a:cubicBezTo>
                    <a:cubicBezTo>
                      <a:pt x="1560" y="1800"/>
                      <a:pt x="1608" y="1848"/>
                      <a:pt x="1752" y="1944"/>
                    </a:cubicBezTo>
                    <a:cubicBezTo>
                      <a:pt x="1896" y="2040"/>
                      <a:pt x="2688" y="2208"/>
                      <a:pt x="2616" y="2232"/>
                    </a:cubicBezTo>
                    <a:cubicBezTo>
                      <a:pt x="2544" y="2256"/>
                      <a:pt x="1728" y="1992"/>
                      <a:pt x="1320" y="2088"/>
                    </a:cubicBezTo>
                    <a:cubicBezTo>
                      <a:pt x="912" y="2184"/>
                      <a:pt x="336" y="2784"/>
                      <a:pt x="168" y="2808"/>
                    </a:cubicBezTo>
                    <a:cubicBezTo>
                      <a:pt x="0" y="2832"/>
                      <a:pt x="264" y="2424"/>
                      <a:pt x="312" y="2232"/>
                    </a:cubicBezTo>
                    <a:cubicBezTo>
                      <a:pt x="360" y="2040"/>
                      <a:pt x="480" y="1968"/>
                      <a:pt x="456" y="1656"/>
                    </a:cubicBezTo>
                    <a:cubicBezTo>
                      <a:pt x="432" y="1344"/>
                      <a:pt x="120" y="456"/>
                      <a:pt x="168" y="3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3"/>
              <p:cNvSpPr/>
              <p:nvPr/>
            </p:nvSpPr>
            <p:spPr>
              <a:xfrm>
                <a:off x="3357000" y="3095280"/>
                <a:ext cx="110520" cy="9036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864" h="744">
                    <a:moveTo>
                      <a:pt x="864" y="744"/>
                    </a:moveTo>
                    <a:cubicBezTo>
                      <a:pt x="768" y="516"/>
                      <a:pt x="672" y="288"/>
                      <a:pt x="576" y="168"/>
                    </a:cubicBezTo>
                    <a:cubicBezTo>
                      <a:pt x="480" y="48"/>
                      <a:pt x="384" y="48"/>
                      <a:pt x="288" y="24"/>
                    </a:cubicBezTo>
                    <a:cubicBezTo>
                      <a:pt x="192" y="0"/>
                      <a:pt x="48" y="24"/>
                      <a:pt x="0" y="24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4"/>
              <p:cNvSpPr/>
              <p:nvPr/>
            </p:nvSpPr>
            <p:spPr>
              <a:xfrm>
                <a:off x="3522960" y="2832120"/>
                <a:ext cx="165600" cy="6984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296" h="576">
                    <a:moveTo>
                      <a:pt x="0" y="576"/>
                    </a:moveTo>
                    <a:cubicBezTo>
                      <a:pt x="192" y="456"/>
                      <a:pt x="384" y="336"/>
                      <a:pt x="576" y="288"/>
                    </a:cubicBezTo>
                    <a:cubicBezTo>
                      <a:pt x="768" y="240"/>
                      <a:pt x="1032" y="336"/>
                      <a:pt x="1152" y="288"/>
                    </a:cubicBezTo>
                    <a:cubicBezTo>
                      <a:pt x="1272" y="240"/>
                      <a:pt x="1284" y="120"/>
                      <a:pt x="1296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5"/>
              <p:cNvSpPr/>
              <p:nvPr/>
            </p:nvSpPr>
            <p:spPr>
              <a:xfrm>
                <a:off x="3666960" y="3147840"/>
                <a:ext cx="95040" cy="932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744" h="768">
                    <a:moveTo>
                      <a:pt x="744" y="288"/>
                    </a:moveTo>
                    <a:cubicBezTo>
                      <a:pt x="588" y="480"/>
                      <a:pt x="432" y="672"/>
                      <a:pt x="312" y="720"/>
                    </a:cubicBezTo>
                    <a:cubicBezTo>
                      <a:pt x="192" y="768"/>
                      <a:pt x="48" y="696"/>
                      <a:pt x="24" y="576"/>
                    </a:cubicBezTo>
                    <a:cubicBezTo>
                      <a:pt x="0" y="456"/>
                      <a:pt x="84" y="228"/>
                      <a:pt x="168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6"/>
              <p:cNvSpPr/>
              <p:nvPr/>
            </p:nvSpPr>
            <p:spPr>
              <a:xfrm>
                <a:off x="3467520" y="3112560"/>
                <a:ext cx="165600" cy="6984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296" h="576">
                    <a:moveTo>
                      <a:pt x="0" y="0"/>
                    </a:moveTo>
                    <a:cubicBezTo>
                      <a:pt x="96" y="132"/>
                      <a:pt x="192" y="264"/>
                      <a:pt x="288" y="288"/>
                    </a:cubicBezTo>
                    <a:cubicBezTo>
                      <a:pt x="384" y="312"/>
                      <a:pt x="480" y="96"/>
                      <a:pt x="576" y="144"/>
                    </a:cubicBezTo>
                    <a:cubicBezTo>
                      <a:pt x="672" y="192"/>
                      <a:pt x="744" y="576"/>
                      <a:pt x="864" y="576"/>
                    </a:cubicBezTo>
                    <a:cubicBezTo>
                      <a:pt x="984" y="576"/>
                      <a:pt x="1140" y="360"/>
                      <a:pt x="1296" y="144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7"/>
              <p:cNvSpPr/>
              <p:nvPr/>
            </p:nvSpPr>
            <p:spPr>
              <a:xfrm>
                <a:off x="3578040" y="2849400"/>
                <a:ext cx="73440" cy="698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76" h="576">
                    <a:moveTo>
                      <a:pt x="576" y="576"/>
                    </a:moveTo>
                    <a:cubicBezTo>
                      <a:pt x="444" y="540"/>
                      <a:pt x="312" y="504"/>
                      <a:pt x="288" y="432"/>
                    </a:cubicBezTo>
                    <a:cubicBezTo>
                      <a:pt x="264" y="360"/>
                      <a:pt x="456" y="192"/>
                      <a:pt x="432" y="144"/>
                    </a:cubicBezTo>
                    <a:cubicBezTo>
                      <a:pt x="408" y="96"/>
                      <a:pt x="216" y="168"/>
                      <a:pt x="144" y="144"/>
                    </a:cubicBezTo>
                    <a:cubicBezTo>
                      <a:pt x="72" y="120"/>
                      <a:pt x="36" y="6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8"/>
              <p:cNvSpPr/>
              <p:nvPr/>
            </p:nvSpPr>
            <p:spPr>
              <a:xfrm>
                <a:off x="3541320" y="3083400"/>
                <a:ext cx="174960" cy="993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368" h="816">
                    <a:moveTo>
                      <a:pt x="1008" y="384"/>
                    </a:moveTo>
                    <a:cubicBezTo>
                      <a:pt x="1188" y="336"/>
                      <a:pt x="1368" y="288"/>
                      <a:pt x="1296" y="240"/>
                    </a:cubicBezTo>
                    <a:cubicBezTo>
                      <a:pt x="1224" y="192"/>
                      <a:pt x="792" y="0"/>
                      <a:pt x="576" y="96"/>
                    </a:cubicBezTo>
                    <a:cubicBezTo>
                      <a:pt x="360" y="192"/>
                      <a:pt x="96" y="720"/>
                      <a:pt x="0" y="81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9"/>
              <p:cNvSpPr/>
              <p:nvPr/>
            </p:nvSpPr>
            <p:spPr>
              <a:xfrm>
                <a:off x="3412080" y="3095280"/>
                <a:ext cx="202320" cy="903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1584" h="744">
                    <a:moveTo>
                      <a:pt x="1584" y="0"/>
                    </a:moveTo>
                    <a:cubicBezTo>
                      <a:pt x="1428" y="48"/>
                      <a:pt x="1272" y="96"/>
                      <a:pt x="1152" y="144"/>
                    </a:cubicBezTo>
                    <a:cubicBezTo>
                      <a:pt x="1032" y="192"/>
                      <a:pt x="888" y="192"/>
                      <a:pt x="864" y="288"/>
                    </a:cubicBezTo>
                    <a:cubicBezTo>
                      <a:pt x="840" y="384"/>
                      <a:pt x="1104" y="696"/>
                      <a:pt x="1008" y="720"/>
                    </a:cubicBezTo>
                    <a:cubicBezTo>
                      <a:pt x="912" y="744"/>
                      <a:pt x="456" y="552"/>
                      <a:pt x="288" y="432"/>
                    </a:cubicBezTo>
                    <a:cubicBezTo>
                      <a:pt x="120" y="312"/>
                      <a:pt x="60" y="156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0"/>
              <p:cNvSpPr/>
              <p:nvPr/>
            </p:nvSpPr>
            <p:spPr>
              <a:xfrm>
                <a:off x="3059280" y="2832120"/>
                <a:ext cx="168840" cy="8748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320" h="720">
                    <a:moveTo>
                      <a:pt x="1320" y="720"/>
                    </a:moveTo>
                    <a:cubicBezTo>
                      <a:pt x="1284" y="540"/>
                      <a:pt x="1248" y="360"/>
                      <a:pt x="1176" y="288"/>
                    </a:cubicBezTo>
                    <a:cubicBezTo>
                      <a:pt x="1104" y="216"/>
                      <a:pt x="1032" y="240"/>
                      <a:pt x="888" y="288"/>
                    </a:cubicBezTo>
                    <a:cubicBezTo>
                      <a:pt x="744" y="336"/>
                      <a:pt x="456" y="576"/>
                      <a:pt x="312" y="576"/>
                    </a:cubicBezTo>
                    <a:cubicBezTo>
                      <a:pt x="168" y="576"/>
                      <a:pt x="48" y="384"/>
                      <a:pt x="24" y="288"/>
                    </a:cubicBezTo>
                    <a:cubicBezTo>
                      <a:pt x="0" y="192"/>
                      <a:pt x="84" y="96"/>
                      <a:pt x="168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1"/>
              <p:cNvSpPr/>
              <p:nvPr/>
            </p:nvSpPr>
            <p:spPr>
              <a:xfrm>
                <a:off x="3062160" y="3130200"/>
                <a:ext cx="214920" cy="788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1680" h="648">
                    <a:moveTo>
                      <a:pt x="1584" y="0"/>
                    </a:moveTo>
                    <a:cubicBezTo>
                      <a:pt x="1632" y="168"/>
                      <a:pt x="1680" y="336"/>
                      <a:pt x="1584" y="432"/>
                    </a:cubicBezTo>
                    <a:cubicBezTo>
                      <a:pt x="1488" y="528"/>
                      <a:pt x="1224" y="648"/>
                      <a:pt x="1008" y="576"/>
                    </a:cubicBezTo>
                    <a:cubicBezTo>
                      <a:pt x="792" y="504"/>
                      <a:pt x="456" y="0"/>
                      <a:pt x="288" y="0"/>
                    </a:cubicBezTo>
                    <a:cubicBezTo>
                      <a:pt x="120" y="0"/>
                      <a:pt x="60" y="288"/>
                      <a:pt x="0" y="57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2"/>
              <p:cNvSpPr/>
              <p:nvPr/>
            </p:nvSpPr>
            <p:spPr>
              <a:xfrm>
                <a:off x="3062160" y="3042360"/>
                <a:ext cx="128880" cy="1400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1008" h="1152">
                    <a:moveTo>
                      <a:pt x="1008" y="0"/>
                    </a:moveTo>
                    <a:cubicBezTo>
                      <a:pt x="828" y="24"/>
                      <a:pt x="648" y="48"/>
                      <a:pt x="576" y="144"/>
                    </a:cubicBezTo>
                    <a:cubicBezTo>
                      <a:pt x="504" y="240"/>
                      <a:pt x="648" y="528"/>
                      <a:pt x="576" y="576"/>
                    </a:cubicBezTo>
                    <a:cubicBezTo>
                      <a:pt x="504" y="624"/>
                      <a:pt x="240" y="336"/>
                      <a:pt x="144" y="432"/>
                    </a:cubicBezTo>
                    <a:cubicBezTo>
                      <a:pt x="48" y="528"/>
                      <a:pt x="24" y="840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3"/>
              <p:cNvSpPr/>
              <p:nvPr/>
            </p:nvSpPr>
            <p:spPr>
              <a:xfrm>
                <a:off x="3519720" y="2901960"/>
                <a:ext cx="95040" cy="213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744" h="1752">
                    <a:moveTo>
                      <a:pt x="744" y="0"/>
                    </a:moveTo>
                    <a:cubicBezTo>
                      <a:pt x="540" y="84"/>
                      <a:pt x="336" y="168"/>
                      <a:pt x="312" y="288"/>
                    </a:cubicBezTo>
                    <a:cubicBezTo>
                      <a:pt x="288" y="408"/>
                      <a:pt x="648" y="504"/>
                      <a:pt x="600" y="720"/>
                    </a:cubicBezTo>
                    <a:cubicBezTo>
                      <a:pt x="552" y="936"/>
                      <a:pt x="48" y="1416"/>
                      <a:pt x="24" y="1584"/>
                    </a:cubicBezTo>
                    <a:cubicBezTo>
                      <a:pt x="0" y="1752"/>
                      <a:pt x="228" y="1740"/>
                      <a:pt x="456" y="1728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4"/>
              <p:cNvSpPr/>
              <p:nvPr/>
            </p:nvSpPr>
            <p:spPr>
              <a:xfrm>
                <a:off x="3836160" y="2849400"/>
                <a:ext cx="137880" cy="612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080" h="504">
                    <a:moveTo>
                      <a:pt x="0" y="144"/>
                    </a:moveTo>
                    <a:cubicBezTo>
                      <a:pt x="168" y="120"/>
                      <a:pt x="336" y="96"/>
                      <a:pt x="432" y="144"/>
                    </a:cubicBezTo>
                    <a:cubicBezTo>
                      <a:pt x="528" y="192"/>
                      <a:pt x="480" y="384"/>
                      <a:pt x="576" y="432"/>
                    </a:cubicBezTo>
                    <a:cubicBezTo>
                      <a:pt x="672" y="480"/>
                      <a:pt x="936" y="504"/>
                      <a:pt x="1008" y="432"/>
                    </a:cubicBezTo>
                    <a:cubicBezTo>
                      <a:pt x="1080" y="360"/>
                      <a:pt x="1044" y="180"/>
                      <a:pt x="1008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5"/>
              <p:cNvSpPr/>
              <p:nvPr/>
            </p:nvSpPr>
            <p:spPr>
              <a:xfrm>
                <a:off x="3338640" y="2989800"/>
                <a:ext cx="55080" cy="3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3541320" y="3305520"/>
                <a:ext cx="73440" cy="3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7"/>
              <p:cNvSpPr/>
              <p:nvPr/>
            </p:nvSpPr>
            <p:spPr>
              <a:xfrm>
                <a:off x="3817440" y="3007440"/>
                <a:ext cx="1836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8"/>
            <p:cNvGrpSpPr/>
            <p:nvPr/>
          </p:nvGrpSpPr>
          <p:grpSpPr>
            <a:xfrm>
              <a:off x="3823560" y="3217680"/>
              <a:ext cx="1042200" cy="642960"/>
              <a:chOff x="3823560" y="3217680"/>
              <a:chExt cx="1042200" cy="642960"/>
            </a:xfrm>
          </p:grpSpPr>
          <p:sp>
            <p:nvSpPr>
              <p:cNvPr id="251" name="Oval 49"/>
              <p:cNvSpPr/>
              <p:nvPr/>
            </p:nvSpPr>
            <p:spPr>
              <a:xfrm>
                <a:off x="3823560" y="321768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50"/>
              <p:cNvSpPr/>
              <p:nvPr/>
            </p:nvSpPr>
            <p:spPr>
              <a:xfrm>
                <a:off x="3823560" y="347472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51"/>
              <p:cNvSpPr/>
              <p:nvPr/>
            </p:nvSpPr>
            <p:spPr>
              <a:xfrm>
                <a:off x="3823560" y="373212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52"/>
              <p:cNvSpPr/>
              <p:nvPr/>
            </p:nvSpPr>
            <p:spPr>
              <a:xfrm>
                <a:off x="4240440" y="334620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3"/>
              <p:cNvSpPr/>
              <p:nvPr/>
            </p:nvSpPr>
            <p:spPr>
              <a:xfrm>
                <a:off x="4240440" y="360360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54"/>
              <p:cNvSpPr/>
              <p:nvPr/>
            </p:nvSpPr>
            <p:spPr>
              <a:xfrm>
                <a:off x="4587840" y="321768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55"/>
              <p:cNvSpPr/>
              <p:nvPr/>
            </p:nvSpPr>
            <p:spPr>
              <a:xfrm>
                <a:off x="4587840" y="3732120"/>
                <a:ext cx="138960" cy="128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6"/>
              <p:cNvSpPr/>
              <p:nvPr/>
            </p:nvSpPr>
            <p:spPr>
              <a:xfrm>
                <a:off x="3893040" y="3732120"/>
                <a:ext cx="69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7"/>
              <p:cNvSpPr/>
              <p:nvPr/>
            </p:nvSpPr>
            <p:spPr>
              <a:xfrm flipV="1">
                <a:off x="3962520" y="3410280"/>
                <a:ext cx="277920" cy="3214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58"/>
              <p:cNvSpPr/>
              <p:nvPr/>
            </p:nvSpPr>
            <p:spPr>
              <a:xfrm flipV="1">
                <a:off x="3962520" y="3410280"/>
                <a:ext cx="277920" cy="128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9"/>
              <p:cNvSpPr/>
              <p:nvPr/>
            </p:nvSpPr>
            <p:spPr>
              <a:xfrm>
                <a:off x="3962520" y="3281760"/>
                <a:ext cx="277920" cy="1929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60"/>
              <p:cNvSpPr/>
              <p:nvPr/>
            </p:nvSpPr>
            <p:spPr>
              <a:xfrm>
                <a:off x="3962520" y="3281760"/>
                <a:ext cx="277920" cy="385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1"/>
              <p:cNvSpPr/>
              <p:nvPr/>
            </p:nvSpPr>
            <p:spPr>
              <a:xfrm>
                <a:off x="3962520" y="3539160"/>
                <a:ext cx="277920" cy="128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2"/>
              <p:cNvSpPr/>
              <p:nvPr/>
            </p:nvSpPr>
            <p:spPr>
              <a:xfrm flipV="1">
                <a:off x="3962520" y="3667680"/>
                <a:ext cx="277920" cy="640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3"/>
              <p:cNvSpPr/>
              <p:nvPr/>
            </p:nvSpPr>
            <p:spPr>
              <a:xfrm flipV="1">
                <a:off x="4379400" y="3281400"/>
                <a:ext cx="208440" cy="128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4"/>
              <p:cNvSpPr/>
              <p:nvPr/>
            </p:nvSpPr>
            <p:spPr>
              <a:xfrm flipV="1">
                <a:off x="4379400" y="3281760"/>
                <a:ext cx="208440" cy="385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5"/>
              <p:cNvSpPr/>
              <p:nvPr/>
            </p:nvSpPr>
            <p:spPr>
              <a:xfrm>
                <a:off x="4379400" y="3410640"/>
                <a:ext cx="208440" cy="385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6"/>
              <p:cNvSpPr/>
              <p:nvPr/>
            </p:nvSpPr>
            <p:spPr>
              <a:xfrm>
                <a:off x="4379400" y="3667680"/>
                <a:ext cx="208440" cy="128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7"/>
              <p:cNvSpPr/>
              <p:nvPr/>
            </p:nvSpPr>
            <p:spPr>
              <a:xfrm>
                <a:off x="4726800" y="3281760"/>
                <a:ext cx="1389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8"/>
              <p:cNvSpPr/>
              <p:nvPr/>
            </p:nvSpPr>
            <p:spPr>
              <a:xfrm>
                <a:off x="4726800" y="3796560"/>
                <a:ext cx="1389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246"/>
          <p:cNvGrpSpPr/>
          <p:nvPr/>
        </p:nvGrpSpPr>
        <p:grpSpPr>
          <a:xfrm>
            <a:off x="5508720" y="3284640"/>
            <a:ext cx="3384360" cy="3240000"/>
            <a:chOff x="5508720" y="3284640"/>
            <a:chExt cx="3384360" cy="3240000"/>
          </a:xfrm>
        </p:grpSpPr>
        <p:sp>
          <p:nvSpPr>
            <p:cNvPr id="272" name="Rectangle 78"/>
            <p:cNvSpPr/>
            <p:nvPr/>
          </p:nvSpPr>
          <p:spPr>
            <a:xfrm>
              <a:off x="5508720" y="3284640"/>
              <a:ext cx="3384360" cy="324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79"/>
            <p:cNvGrpSpPr/>
            <p:nvPr/>
          </p:nvGrpSpPr>
          <p:grpSpPr>
            <a:xfrm>
              <a:off x="5796000" y="3981600"/>
              <a:ext cx="2743200" cy="2398320"/>
              <a:chOff x="5796000" y="3981600"/>
              <a:chExt cx="2743200" cy="2398320"/>
            </a:xfrm>
          </p:grpSpPr>
          <p:sp>
            <p:nvSpPr>
              <p:cNvPr id="274" name="Text Box 80"/>
              <p:cNvSpPr/>
              <p:nvPr/>
            </p:nvSpPr>
            <p:spPr>
              <a:xfrm>
                <a:off x="6893280" y="5009040"/>
                <a:ext cx="365760" cy="4568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81"/>
              <p:cNvGrpSpPr/>
              <p:nvPr/>
            </p:nvGrpSpPr>
            <p:grpSpPr>
              <a:xfrm>
                <a:off x="5796000" y="5223600"/>
                <a:ext cx="740880" cy="771120"/>
                <a:chOff x="5796000" y="5223600"/>
                <a:chExt cx="740880" cy="771120"/>
              </a:xfrm>
            </p:grpSpPr>
            <p:sp>
              <p:nvSpPr>
                <p:cNvPr id="276" name="Oval 82"/>
                <p:cNvSpPr/>
                <p:nvPr/>
              </p:nvSpPr>
              <p:spPr>
                <a:xfrm>
                  <a:off x="5796000" y="54050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83"/>
                <p:cNvSpPr/>
                <p:nvPr/>
              </p:nvSpPr>
              <p:spPr>
                <a:xfrm>
                  <a:off x="6031800" y="54050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84"/>
                <p:cNvSpPr/>
                <p:nvPr/>
              </p:nvSpPr>
              <p:spPr>
                <a:xfrm>
                  <a:off x="5796000" y="56318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85"/>
                <p:cNvSpPr/>
                <p:nvPr/>
              </p:nvSpPr>
              <p:spPr>
                <a:xfrm>
                  <a:off x="5796000" y="58586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86"/>
                <p:cNvSpPr/>
                <p:nvPr/>
              </p:nvSpPr>
              <p:spPr>
                <a:xfrm>
                  <a:off x="6031800" y="56318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87"/>
                <p:cNvSpPr/>
                <p:nvPr/>
              </p:nvSpPr>
              <p:spPr>
                <a:xfrm>
                  <a:off x="6031800" y="585864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88"/>
                <p:cNvSpPr/>
                <p:nvPr/>
              </p:nvSpPr>
              <p:spPr>
                <a:xfrm>
                  <a:off x="6233760" y="531432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89"/>
                <p:cNvSpPr/>
                <p:nvPr/>
              </p:nvSpPr>
              <p:spPr>
                <a:xfrm>
                  <a:off x="6233760" y="554112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90"/>
                <p:cNvSpPr/>
                <p:nvPr/>
              </p:nvSpPr>
              <p:spPr>
                <a:xfrm>
                  <a:off x="6233760" y="576792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91"/>
                <p:cNvSpPr/>
                <p:nvPr/>
              </p:nvSpPr>
              <p:spPr>
                <a:xfrm>
                  <a:off x="6436080" y="522360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92"/>
                <p:cNvSpPr/>
                <p:nvPr/>
              </p:nvSpPr>
              <p:spPr>
                <a:xfrm>
                  <a:off x="6436080" y="545040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93"/>
                <p:cNvSpPr/>
                <p:nvPr/>
              </p:nvSpPr>
              <p:spPr>
                <a:xfrm>
                  <a:off x="6436080" y="5677200"/>
                  <a:ext cx="100800" cy="1360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4"/>
                <p:cNvSpPr/>
                <p:nvPr/>
              </p:nvSpPr>
              <p:spPr>
                <a:xfrm flipV="1">
                  <a:off x="6065280" y="5268960"/>
                  <a:ext cx="471600" cy="2268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95"/>
                <p:cNvSpPr/>
                <p:nvPr/>
              </p:nvSpPr>
              <p:spPr>
                <a:xfrm flipV="1">
                  <a:off x="6065280" y="5767920"/>
                  <a:ext cx="437760" cy="18144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6"/>
                <p:cNvSpPr/>
                <p:nvPr/>
              </p:nvSpPr>
              <p:spPr>
                <a:xfrm flipV="1">
                  <a:off x="6099120" y="5495760"/>
                  <a:ext cx="0" cy="4536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7"/>
                <p:cNvSpPr/>
                <p:nvPr/>
              </p:nvSpPr>
              <p:spPr>
                <a:xfrm flipV="1">
                  <a:off x="6503400" y="5268960"/>
                  <a:ext cx="0" cy="4989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98"/>
                <p:cNvSpPr/>
                <p:nvPr/>
              </p:nvSpPr>
              <p:spPr>
                <a:xfrm flipV="1">
                  <a:off x="5863320" y="5223600"/>
                  <a:ext cx="606240" cy="2268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99"/>
                <p:cNvSpPr/>
                <p:nvPr/>
              </p:nvSpPr>
              <p:spPr>
                <a:xfrm flipV="1">
                  <a:off x="5863320" y="5359680"/>
                  <a:ext cx="404280" cy="907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00"/>
                <p:cNvSpPr/>
                <p:nvPr/>
              </p:nvSpPr>
              <p:spPr>
                <a:xfrm>
                  <a:off x="5863320" y="5450400"/>
                  <a:ext cx="2358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01"/>
                <p:cNvSpPr/>
                <p:nvPr/>
              </p:nvSpPr>
              <p:spPr>
                <a:xfrm>
                  <a:off x="5863320" y="5541120"/>
                  <a:ext cx="168120" cy="36288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02"/>
                <p:cNvSpPr/>
                <p:nvPr/>
              </p:nvSpPr>
              <p:spPr>
                <a:xfrm>
                  <a:off x="5896800" y="5495760"/>
                  <a:ext cx="134640" cy="18144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03"/>
                <p:cNvSpPr/>
                <p:nvPr/>
              </p:nvSpPr>
              <p:spPr>
                <a:xfrm flipV="1">
                  <a:off x="5896800" y="5541120"/>
                  <a:ext cx="134640" cy="13608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04"/>
                <p:cNvSpPr/>
                <p:nvPr/>
              </p:nvSpPr>
              <p:spPr>
                <a:xfrm>
                  <a:off x="5896800" y="5677200"/>
                  <a:ext cx="134640" cy="453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05"/>
                <p:cNvSpPr/>
                <p:nvPr/>
              </p:nvSpPr>
              <p:spPr>
                <a:xfrm>
                  <a:off x="5896800" y="5677200"/>
                  <a:ext cx="134640" cy="2268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06"/>
                <p:cNvSpPr/>
                <p:nvPr/>
              </p:nvSpPr>
              <p:spPr>
                <a:xfrm flipV="1">
                  <a:off x="5896800" y="5541120"/>
                  <a:ext cx="134640" cy="36288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07"/>
                <p:cNvSpPr/>
                <p:nvPr/>
              </p:nvSpPr>
              <p:spPr>
                <a:xfrm>
                  <a:off x="5896800" y="5904000"/>
                  <a:ext cx="134640" cy="453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8"/>
                <p:cNvSpPr/>
                <p:nvPr/>
              </p:nvSpPr>
              <p:spPr>
                <a:xfrm flipV="1">
                  <a:off x="5896800" y="5767920"/>
                  <a:ext cx="134640" cy="13608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09"/>
                <p:cNvSpPr/>
                <p:nvPr/>
              </p:nvSpPr>
              <p:spPr>
                <a:xfrm flipV="1">
                  <a:off x="6099120" y="5541120"/>
                  <a:ext cx="404280" cy="18144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10"/>
                <p:cNvSpPr/>
                <p:nvPr/>
              </p:nvSpPr>
              <p:spPr>
                <a:xfrm>
                  <a:off x="6301080" y="5359680"/>
                  <a:ext cx="0" cy="4989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11"/>
              <p:cNvGrpSpPr/>
              <p:nvPr/>
            </p:nvGrpSpPr>
            <p:grpSpPr>
              <a:xfrm>
                <a:off x="7797960" y="4298040"/>
                <a:ext cx="741240" cy="848160"/>
                <a:chOff x="7797960" y="4298040"/>
                <a:chExt cx="741240" cy="848160"/>
              </a:xfrm>
            </p:grpSpPr>
            <p:sp>
              <p:nvSpPr>
                <p:cNvPr id="306" name="Oval 112"/>
                <p:cNvSpPr/>
                <p:nvPr/>
              </p:nvSpPr>
              <p:spPr>
                <a:xfrm>
                  <a:off x="8110080" y="4969440"/>
                  <a:ext cx="77760" cy="17676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3"/>
                <p:cNvSpPr/>
                <p:nvPr/>
              </p:nvSpPr>
              <p:spPr>
                <a:xfrm>
                  <a:off x="8110080" y="4298040"/>
                  <a:ext cx="38880" cy="14112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14"/>
                <p:cNvSpPr/>
                <p:nvPr/>
              </p:nvSpPr>
              <p:spPr>
                <a:xfrm flipH="1">
                  <a:off x="7797600" y="440388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15"/>
                <p:cNvSpPr/>
                <p:nvPr/>
              </p:nvSpPr>
              <p:spPr>
                <a:xfrm flipH="1">
                  <a:off x="8070480" y="440388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16"/>
                <p:cNvSpPr/>
                <p:nvPr/>
              </p:nvSpPr>
              <p:spPr>
                <a:xfrm flipH="1">
                  <a:off x="7797600" y="465156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17"/>
                <p:cNvSpPr/>
                <p:nvPr/>
              </p:nvSpPr>
              <p:spPr>
                <a:xfrm flipH="1">
                  <a:off x="7797600" y="489888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18"/>
                <p:cNvSpPr/>
                <p:nvPr/>
              </p:nvSpPr>
              <p:spPr>
                <a:xfrm flipH="1">
                  <a:off x="8070480" y="465156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19"/>
                <p:cNvSpPr/>
                <p:nvPr/>
              </p:nvSpPr>
              <p:spPr>
                <a:xfrm flipH="1">
                  <a:off x="8070480" y="4898880"/>
                  <a:ext cx="117000" cy="1058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20"/>
                <p:cNvSpPr/>
                <p:nvPr/>
              </p:nvSpPr>
              <p:spPr>
                <a:xfrm>
                  <a:off x="8149320" y="4403880"/>
                  <a:ext cx="162360" cy="28260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600" h="1152">
                      <a:moveTo>
                        <a:pt x="144" y="1152"/>
                      </a:moveTo>
                      <a:cubicBezTo>
                        <a:pt x="372" y="888"/>
                        <a:pt x="600" y="624"/>
                        <a:pt x="576" y="432"/>
                      </a:cubicBezTo>
                      <a:cubicBezTo>
                        <a:pt x="552" y="240"/>
                        <a:pt x="96" y="72"/>
                        <a:pt x="0" y="0"/>
                      </a:cubicBezTo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121"/>
                <p:cNvSpPr/>
                <p:nvPr/>
              </p:nvSpPr>
              <p:spPr>
                <a:xfrm>
                  <a:off x="8149320" y="4686840"/>
                  <a:ext cx="162360" cy="282600"/>
                </a:xfrm>
                <a:custGeom>
                  <a:avLst/>
                  <a:gdLst>
                    <a:gd name="textAreaLeft" fmla="*/ 0 w 162360"/>
                    <a:gd name="textAreaRight" fmla="*/ 162720 w 16236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600" h="1152">
                      <a:moveTo>
                        <a:pt x="0" y="0"/>
                      </a:moveTo>
                      <a:cubicBezTo>
                        <a:pt x="276" y="264"/>
                        <a:pt x="552" y="528"/>
                        <a:pt x="576" y="720"/>
                      </a:cubicBezTo>
                      <a:cubicBezTo>
                        <a:pt x="600" y="912"/>
                        <a:pt x="216" y="1056"/>
                        <a:pt x="144" y="1152"/>
                      </a:cubicBezTo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22"/>
                <p:cNvSpPr/>
                <p:nvPr/>
              </p:nvSpPr>
              <p:spPr>
                <a:xfrm>
                  <a:off x="8149320" y="4403880"/>
                  <a:ext cx="351000" cy="565560"/>
                </a:xfrm>
                <a:custGeom>
                  <a:avLst/>
                  <a:gdLst>
                    <a:gd name="textAreaLeft" fmla="*/ 0 w 351000"/>
                    <a:gd name="textAreaRight" fmla="*/ 351360 w 351000"/>
                    <a:gd name="textAreaTop" fmla="*/ 0 h 565560"/>
                    <a:gd name="textAreaBottom" fmla="*/ 565920 h 565560"/>
                  </a:gdLst>
                  <a:ahLst/>
                  <a:rect l="textAreaLeft" t="textAreaTop" r="textAreaRight" b="textAreaBottom"/>
                  <a:pathLst>
                    <a:path w="1296" h="2304">
                      <a:moveTo>
                        <a:pt x="0" y="0"/>
                      </a:moveTo>
                      <a:cubicBezTo>
                        <a:pt x="408" y="168"/>
                        <a:pt x="816" y="336"/>
                        <a:pt x="1008" y="576"/>
                      </a:cubicBezTo>
                      <a:cubicBezTo>
                        <a:pt x="1200" y="816"/>
                        <a:pt x="1296" y="1152"/>
                        <a:pt x="1152" y="1440"/>
                      </a:cubicBezTo>
                      <a:cubicBezTo>
                        <a:pt x="1008" y="1728"/>
                        <a:pt x="312" y="2160"/>
                        <a:pt x="144" y="2304"/>
                      </a:cubicBezTo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23"/>
                <p:cNvSpPr/>
                <p:nvPr/>
              </p:nvSpPr>
              <p:spPr>
                <a:xfrm>
                  <a:off x="8188200" y="4439160"/>
                  <a:ext cx="31176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24"/>
                <p:cNvSpPr/>
                <p:nvPr/>
              </p:nvSpPr>
              <p:spPr>
                <a:xfrm>
                  <a:off x="8188200" y="4969440"/>
                  <a:ext cx="27288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25"/>
                <p:cNvSpPr/>
                <p:nvPr/>
              </p:nvSpPr>
              <p:spPr>
                <a:xfrm>
                  <a:off x="8188200" y="4722120"/>
                  <a:ext cx="3510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26"/>
                <p:cNvSpPr/>
                <p:nvPr/>
              </p:nvSpPr>
              <p:spPr>
                <a:xfrm>
                  <a:off x="7915320" y="4439160"/>
                  <a:ext cx="15588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27"/>
                <p:cNvSpPr/>
                <p:nvPr/>
              </p:nvSpPr>
              <p:spPr>
                <a:xfrm>
                  <a:off x="7915320" y="4439160"/>
                  <a:ext cx="155880" cy="21204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28"/>
                <p:cNvSpPr/>
                <p:nvPr/>
              </p:nvSpPr>
              <p:spPr>
                <a:xfrm>
                  <a:off x="7915320" y="4474800"/>
                  <a:ext cx="194760" cy="42408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29"/>
                <p:cNvSpPr/>
                <p:nvPr/>
              </p:nvSpPr>
              <p:spPr>
                <a:xfrm flipV="1">
                  <a:off x="7915320" y="4474440"/>
                  <a:ext cx="155880" cy="17676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0"/>
                <p:cNvSpPr/>
                <p:nvPr/>
              </p:nvSpPr>
              <p:spPr>
                <a:xfrm flipV="1">
                  <a:off x="7915320" y="4510080"/>
                  <a:ext cx="155880" cy="38880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31"/>
                <p:cNvSpPr/>
                <p:nvPr/>
              </p:nvSpPr>
              <p:spPr>
                <a:xfrm>
                  <a:off x="7915320" y="4722120"/>
                  <a:ext cx="15588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32"/>
                <p:cNvSpPr/>
                <p:nvPr/>
              </p:nvSpPr>
              <p:spPr>
                <a:xfrm>
                  <a:off x="7915320" y="4722120"/>
                  <a:ext cx="155880" cy="17676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33"/>
                <p:cNvSpPr/>
                <p:nvPr/>
              </p:nvSpPr>
              <p:spPr>
                <a:xfrm>
                  <a:off x="7915320" y="4969440"/>
                  <a:ext cx="15588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34"/>
                <p:cNvSpPr/>
                <p:nvPr/>
              </p:nvSpPr>
              <p:spPr>
                <a:xfrm flipV="1">
                  <a:off x="7915320" y="4757040"/>
                  <a:ext cx="155880" cy="17676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135"/>
              <p:cNvGrpSpPr/>
              <p:nvPr/>
            </p:nvGrpSpPr>
            <p:grpSpPr>
              <a:xfrm>
                <a:off x="6026760" y="4452480"/>
                <a:ext cx="535680" cy="616680"/>
                <a:chOff x="6026760" y="4452480"/>
                <a:chExt cx="535680" cy="616680"/>
              </a:xfrm>
            </p:grpSpPr>
            <p:sp>
              <p:nvSpPr>
                <p:cNvPr id="330" name="Oval 136"/>
                <p:cNvSpPr/>
                <p:nvPr/>
              </p:nvSpPr>
              <p:spPr>
                <a:xfrm flipH="1">
                  <a:off x="6026400" y="445248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37"/>
                <p:cNvSpPr/>
                <p:nvPr/>
              </p:nvSpPr>
              <p:spPr>
                <a:xfrm flipH="1">
                  <a:off x="6314760" y="445248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138"/>
                <p:cNvSpPr/>
                <p:nvPr/>
              </p:nvSpPr>
              <p:spPr>
                <a:xfrm flipH="1">
                  <a:off x="6026400" y="469908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139"/>
                <p:cNvSpPr/>
                <p:nvPr/>
              </p:nvSpPr>
              <p:spPr>
                <a:xfrm flipH="1">
                  <a:off x="6026400" y="494604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40"/>
                <p:cNvSpPr/>
                <p:nvPr/>
              </p:nvSpPr>
              <p:spPr>
                <a:xfrm flipH="1">
                  <a:off x="6314760" y="469908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41"/>
                <p:cNvSpPr/>
                <p:nvPr/>
              </p:nvSpPr>
              <p:spPr>
                <a:xfrm flipH="1">
                  <a:off x="6314760" y="4946040"/>
                  <a:ext cx="123480" cy="12312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42"/>
                <p:cNvSpPr/>
                <p:nvPr/>
              </p:nvSpPr>
              <p:spPr>
                <a:xfrm>
                  <a:off x="6150600" y="4493520"/>
                  <a:ext cx="16452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43"/>
                <p:cNvSpPr/>
                <p:nvPr/>
              </p:nvSpPr>
              <p:spPr>
                <a:xfrm>
                  <a:off x="6150600" y="4534560"/>
                  <a:ext cx="164520" cy="1645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44"/>
                <p:cNvSpPr/>
                <p:nvPr/>
              </p:nvSpPr>
              <p:spPr>
                <a:xfrm>
                  <a:off x="6150600" y="4534560"/>
                  <a:ext cx="164520" cy="4111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45"/>
                <p:cNvSpPr/>
                <p:nvPr/>
              </p:nvSpPr>
              <p:spPr>
                <a:xfrm flipV="1">
                  <a:off x="6150600" y="4575240"/>
                  <a:ext cx="123480" cy="2055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46"/>
                <p:cNvSpPr/>
                <p:nvPr/>
              </p:nvSpPr>
              <p:spPr>
                <a:xfrm>
                  <a:off x="6150600" y="4756680"/>
                  <a:ext cx="16452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47"/>
                <p:cNvSpPr/>
                <p:nvPr/>
              </p:nvSpPr>
              <p:spPr>
                <a:xfrm>
                  <a:off x="6150600" y="4756680"/>
                  <a:ext cx="164520" cy="2055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48"/>
                <p:cNvSpPr/>
                <p:nvPr/>
              </p:nvSpPr>
              <p:spPr>
                <a:xfrm>
                  <a:off x="6150600" y="5003640"/>
                  <a:ext cx="16452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49"/>
                <p:cNvSpPr/>
                <p:nvPr/>
              </p:nvSpPr>
              <p:spPr>
                <a:xfrm flipV="1">
                  <a:off x="6150600" y="4797720"/>
                  <a:ext cx="164520" cy="2055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0"/>
                <p:cNvSpPr/>
                <p:nvPr/>
              </p:nvSpPr>
              <p:spPr>
                <a:xfrm flipV="1">
                  <a:off x="6150600" y="4592160"/>
                  <a:ext cx="205920" cy="4111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51"/>
                <p:cNvSpPr/>
                <p:nvPr/>
              </p:nvSpPr>
              <p:spPr>
                <a:xfrm>
                  <a:off x="6438960" y="4510080"/>
                  <a:ext cx="12348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52"/>
                <p:cNvSpPr/>
                <p:nvPr/>
              </p:nvSpPr>
              <p:spPr>
                <a:xfrm>
                  <a:off x="6438960" y="4756680"/>
                  <a:ext cx="12348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53"/>
                <p:cNvSpPr/>
                <p:nvPr/>
              </p:nvSpPr>
              <p:spPr>
                <a:xfrm>
                  <a:off x="6438960" y="5003640"/>
                  <a:ext cx="12348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54"/>
              <p:cNvGrpSpPr/>
              <p:nvPr/>
            </p:nvGrpSpPr>
            <p:grpSpPr>
              <a:xfrm>
                <a:off x="6719760" y="3981600"/>
                <a:ext cx="998640" cy="570240"/>
                <a:chOff x="6719760" y="3981600"/>
                <a:chExt cx="998640" cy="570240"/>
              </a:xfrm>
            </p:grpSpPr>
            <p:sp>
              <p:nvSpPr>
                <p:cNvPr id="349" name="Oval 155"/>
                <p:cNvSpPr/>
                <p:nvPr/>
              </p:nvSpPr>
              <p:spPr>
                <a:xfrm>
                  <a:off x="6719760" y="398160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56"/>
                <p:cNvSpPr/>
                <p:nvPr/>
              </p:nvSpPr>
              <p:spPr>
                <a:xfrm>
                  <a:off x="6719760" y="42008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157"/>
                <p:cNvSpPr/>
                <p:nvPr/>
              </p:nvSpPr>
              <p:spPr>
                <a:xfrm>
                  <a:off x="6719760" y="44204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58"/>
                <p:cNvSpPr/>
                <p:nvPr/>
              </p:nvSpPr>
              <p:spPr>
                <a:xfrm>
                  <a:off x="7037640" y="398160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59"/>
                <p:cNvSpPr/>
                <p:nvPr/>
              </p:nvSpPr>
              <p:spPr>
                <a:xfrm>
                  <a:off x="7037640" y="42008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60"/>
                <p:cNvSpPr/>
                <p:nvPr/>
              </p:nvSpPr>
              <p:spPr>
                <a:xfrm>
                  <a:off x="7037640" y="44204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61"/>
                <p:cNvSpPr/>
                <p:nvPr/>
              </p:nvSpPr>
              <p:spPr>
                <a:xfrm>
                  <a:off x="7355520" y="398160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62"/>
                <p:cNvSpPr/>
                <p:nvPr/>
              </p:nvSpPr>
              <p:spPr>
                <a:xfrm>
                  <a:off x="7355520" y="42008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163"/>
                <p:cNvSpPr/>
                <p:nvPr/>
              </p:nvSpPr>
              <p:spPr>
                <a:xfrm>
                  <a:off x="7355520" y="4420440"/>
                  <a:ext cx="136080" cy="131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64"/>
                <p:cNvSpPr/>
                <p:nvPr/>
              </p:nvSpPr>
              <p:spPr>
                <a:xfrm>
                  <a:off x="6855840" y="4043160"/>
                  <a:ext cx="18144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65"/>
                <p:cNvSpPr/>
                <p:nvPr/>
              </p:nvSpPr>
              <p:spPr>
                <a:xfrm>
                  <a:off x="7173720" y="4043160"/>
                  <a:ext cx="18144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66"/>
                <p:cNvSpPr/>
                <p:nvPr/>
              </p:nvSpPr>
              <p:spPr>
                <a:xfrm>
                  <a:off x="6855840" y="4262760"/>
                  <a:ext cx="18144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7"/>
                <p:cNvSpPr/>
                <p:nvPr/>
              </p:nvSpPr>
              <p:spPr>
                <a:xfrm>
                  <a:off x="7173720" y="4262760"/>
                  <a:ext cx="18144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68"/>
                <p:cNvSpPr/>
                <p:nvPr/>
              </p:nvSpPr>
              <p:spPr>
                <a:xfrm>
                  <a:off x="6855840" y="4482360"/>
                  <a:ext cx="13608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69"/>
                <p:cNvSpPr/>
                <p:nvPr/>
              </p:nvSpPr>
              <p:spPr>
                <a:xfrm>
                  <a:off x="7173720" y="4482360"/>
                  <a:ext cx="18144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70"/>
                <p:cNvSpPr/>
                <p:nvPr/>
              </p:nvSpPr>
              <p:spPr>
                <a:xfrm>
                  <a:off x="7491600" y="4052160"/>
                  <a:ext cx="2268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71"/>
                <p:cNvSpPr/>
                <p:nvPr/>
              </p:nvSpPr>
              <p:spPr>
                <a:xfrm>
                  <a:off x="7491600" y="4262760"/>
                  <a:ext cx="2268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72"/>
                <p:cNvSpPr/>
                <p:nvPr/>
              </p:nvSpPr>
              <p:spPr>
                <a:xfrm>
                  <a:off x="7491600" y="4482360"/>
                  <a:ext cx="2268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73"/>
                <p:cNvSpPr/>
                <p:nvPr/>
              </p:nvSpPr>
              <p:spPr>
                <a:xfrm flipV="1">
                  <a:off x="6855840" y="4086720"/>
                  <a:ext cx="181440" cy="1753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74"/>
                <p:cNvSpPr/>
                <p:nvPr/>
              </p:nvSpPr>
              <p:spPr>
                <a:xfrm>
                  <a:off x="6855840" y="4262760"/>
                  <a:ext cx="181440" cy="1753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75"/>
                <p:cNvSpPr/>
                <p:nvPr/>
              </p:nvSpPr>
              <p:spPr>
                <a:xfrm>
                  <a:off x="6855840" y="4043160"/>
                  <a:ext cx="181440" cy="1753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76"/>
                <p:cNvSpPr/>
                <p:nvPr/>
              </p:nvSpPr>
              <p:spPr>
                <a:xfrm flipV="1">
                  <a:off x="6855840" y="4306320"/>
                  <a:ext cx="181440" cy="13140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77"/>
                <p:cNvSpPr/>
                <p:nvPr/>
              </p:nvSpPr>
              <p:spPr>
                <a:xfrm flipV="1">
                  <a:off x="6855840" y="4130640"/>
                  <a:ext cx="181440" cy="30708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78"/>
                <p:cNvSpPr/>
                <p:nvPr/>
              </p:nvSpPr>
              <p:spPr>
                <a:xfrm>
                  <a:off x="6901200" y="4087080"/>
                  <a:ext cx="136080" cy="35100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79"/>
                <p:cNvSpPr/>
                <p:nvPr/>
              </p:nvSpPr>
              <p:spPr>
                <a:xfrm>
                  <a:off x="7173720" y="4043160"/>
                  <a:ext cx="136080" cy="3949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80"/>
                <p:cNvSpPr/>
                <p:nvPr/>
              </p:nvSpPr>
              <p:spPr>
                <a:xfrm flipV="1">
                  <a:off x="7173720" y="4130640"/>
                  <a:ext cx="181440" cy="30708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81"/>
                <p:cNvSpPr/>
                <p:nvPr/>
              </p:nvSpPr>
              <p:spPr>
                <a:xfrm flipV="1">
                  <a:off x="7173720" y="4086720"/>
                  <a:ext cx="181440" cy="1753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82"/>
                <p:cNvSpPr/>
                <p:nvPr/>
              </p:nvSpPr>
              <p:spPr>
                <a:xfrm>
                  <a:off x="7219080" y="4262760"/>
                  <a:ext cx="136080" cy="21924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83"/>
                <p:cNvSpPr/>
                <p:nvPr/>
              </p:nvSpPr>
              <p:spPr>
                <a:xfrm flipV="1">
                  <a:off x="7173720" y="4306320"/>
                  <a:ext cx="181440" cy="13140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84"/>
                <p:cNvSpPr/>
                <p:nvPr/>
              </p:nvSpPr>
              <p:spPr>
                <a:xfrm>
                  <a:off x="7219080" y="4043160"/>
                  <a:ext cx="181440" cy="17532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185"/>
              <p:cNvGrpSpPr/>
              <p:nvPr/>
            </p:nvGrpSpPr>
            <p:grpSpPr>
              <a:xfrm>
                <a:off x="6719760" y="5763240"/>
                <a:ext cx="693360" cy="616680"/>
                <a:chOff x="6719760" y="5763240"/>
                <a:chExt cx="693360" cy="616680"/>
              </a:xfrm>
            </p:grpSpPr>
            <p:sp>
              <p:nvSpPr>
                <p:cNvPr id="380" name="Oval 186"/>
                <p:cNvSpPr/>
                <p:nvPr/>
              </p:nvSpPr>
              <p:spPr>
                <a:xfrm flipH="1">
                  <a:off x="6908760" y="585216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87"/>
                <p:cNvSpPr/>
                <p:nvPr/>
              </p:nvSpPr>
              <p:spPr>
                <a:xfrm flipH="1">
                  <a:off x="7129440" y="585216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88"/>
                <p:cNvSpPr/>
                <p:nvPr/>
              </p:nvSpPr>
              <p:spPr>
                <a:xfrm flipH="1">
                  <a:off x="6908760" y="602352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89"/>
                <p:cNvSpPr/>
                <p:nvPr/>
              </p:nvSpPr>
              <p:spPr>
                <a:xfrm flipH="1">
                  <a:off x="6908760" y="622908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90"/>
                <p:cNvSpPr/>
                <p:nvPr/>
              </p:nvSpPr>
              <p:spPr>
                <a:xfrm flipH="1">
                  <a:off x="7129440" y="602352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91"/>
                <p:cNvSpPr/>
                <p:nvPr/>
              </p:nvSpPr>
              <p:spPr>
                <a:xfrm flipH="1">
                  <a:off x="7129440" y="6229080"/>
                  <a:ext cx="94320" cy="10260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92"/>
                <p:cNvSpPr/>
                <p:nvPr/>
              </p:nvSpPr>
              <p:spPr>
                <a:xfrm>
                  <a:off x="7224120" y="5900040"/>
                  <a:ext cx="189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93"/>
                <p:cNvSpPr/>
                <p:nvPr/>
              </p:nvSpPr>
              <p:spPr>
                <a:xfrm>
                  <a:off x="7224120" y="6071400"/>
                  <a:ext cx="189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94"/>
                <p:cNvSpPr/>
                <p:nvPr/>
              </p:nvSpPr>
              <p:spPr>
                <a:xfrm>
                  <a:off x="7224120" y="6277320"/>
                  <a:ext cx="189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95"/>
                <p:cNvSpPr/>
                <p:nvPr/>
              </p:nvSpPr>
              <p:spPr>
                <a:xfrm>
                  <a:off x="6814080" y="5900040"/>
                  <a:ext cx="9432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96"/>
                <p:cNvSpPr/>
                <p:nvPr/>
              </p:nvSpPr>
              <p:spPr>
                <a:xfrm>
                  <a:off x="6719760" y="6071400"/>
                  <a:ext cx="189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197"/>
                <p:cNvSpPr/>
                <p:nvPr/>
              </p:nvSpPr>
              <p:spPr>
                <a:xfrm>
                  <a:off x="6782760" y="6277320"/>
                  <a:ext cx="126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198"/>
                <p:cNvSpPr/>
                <p:nvPr/>
              </p:nvSpPr>
              <p:spPr>
                <a:xfrm>
                  <a:off x="6782760" y="6277320"/>
                  <a:ext cx="0" cy="1026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99"/>
                <p:cNvSpPr/>
                <p:nvPr/>
              </p:nvSpPr>
              <p:spPr>
                <a:xfrm>
                  <a:off x="6782760" y="6379920"/>
                  <a:ext cx="50436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00"/>
                <p:cNvSpPr/>
                <p:nvPr/>
              </p:nvSpPr>
              <p:spPr>
                <a:xfrm flipV="1">
                  <a:off x="7287120" y="6276960"/>
                  <a:ext cx="0" cy="1026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01"/>
                <p:cNvSpPr/>
                <p:nvPr/>
              </p:nvSpPr>
              <p:spPr>
                <a:xfrm flipV="1">
                  <a:off x="6814080" y="5797080"/>
                  <a:ext cx="0" cy="1026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02"/>
                <p:cNvSpPr/>
                <p:nvPr/>
              </p:nvSpPr>
              <p:spPr>
                <a:xfrm>
                  <a:off x="6814080" y="5797440"/>
                  <a:ext cx="44136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03"/>
                <p:cNvSpPr/>
                <p:nvPr/>
              </p:nvSpPr>
              <p:spPr>
                <a:xfrm>
                  <a:off x="7255440" y="5797440"/>
                  <a:ext cx="0" cy="1026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04"/>
                <p:cNvSpPr/>
                <p:nvPr/>
              </p:nvSpPr>
              <p:spPr>
                <a:xfrm flipV="1">
                  <a:off x="6719760" y="5763240"/>
                  <a:ext cx="0" cy="3081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05"/>
                <p:cNvSpPr/>
                <p:nvPr/>
              </p:nvSpPr>
              <p:spPr>
                <a:xfrm>
                  <a:off x="6719760" y="5763240"/>
                  <a:ext cx="59904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06"/>
                <p:cNvSpPr/>
                <p:nvPr/>
              </p:nvSpPr>
              <p:spPr>
                <a:xfrm>
                  <a:off x="7318800" y="5763240"/>
                  <a:ext cx="0" cy="3427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07"/>
                <p:cNvSpPr/>
                <p:nvPr/>
              </p:nvSpPr>
              <p:spPr>
                <a:xfrm>
                  <a:off x="7003440" y="5900040"/>
                  <a:ext cx="15732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08"/>
                <p:cNvSpPr/>
                <p:nvPr/>
              </p:nvSpPr>
              <p:spPr>
                <a:xfrm>
                  <a:off x="7003440" y="5900040"/>
                  <a:ext cx="126000" cy="1368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09"/>
                <p:cNvSpPr/>
                <p:nvPr/>
              </p:nvSpPr>
              <p:spPr>
                <a:xfrm>
                  <a:off x="7003440" y="5934600"/>
                  <a:ext cx="126000" cy="34272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0"/>
                <p:cNvSpPr/>
                <p:nvPr/>
              </p:nvSpPr>
              <p:spPr>
                <a:xfrm flipV="1">
                  <a:off x="7003440" y="5934600"/>
                  <a:ext cx="126000" cy="13680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11"/>
                <p:cNvSpPr/>
                <p:nvPr/>
              </p:nvSpPr>
              <p:spPr>
                <a:xfrm>
                  <a:off x="7003440" y="6071400"/>
                  <a:ext cx="94320" cy="2055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12"/>
                <p:cNvSpPr/>
                <p:nvPr/>
              </p:nvSpPr>
              <p:spPr>
                <a:xfrm>
                  <a:off x="7003440" y="6071400"/>
                  <a:ext cx="126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13"/>
                <p:cNvSpPr/>
                <p:nvPr/>
              </p:nvSpPr>
              <p:spPr>
                <a:xfrm>
                  <a:off x="7003440" y="6277320"/>
                  <a:ext cx="126000" cy="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14"/>
                <p:cNvSpPr/>
                <p:nvPr/>
              </p:nvSpPr>
              <p:spPr>
                <a:xfrm flipV="1">
                  <a:off x="7003440" y="6105960"/>
                  <a:ext cx="126000" cy="1713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15"/>
                <p:cNvSpPr/>
                <p:nvPr/>
              </p:nvSpPr>
              <p:spPr>
                <a:xfrm flipV="1">
                  <a:off x="7003440" y="5968800"/>
                  <a:ext cx="126000" cy="308160"/>
                </a:xfrm>
                <a:prstGeom prst="line">
                  <a:avLst/>
                </a:prstGeom>
                <a:ln w="936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216"/>
              <p:cNvGrpSpPr/>
              <p:nvPr/>
            </p:nvGrpSpPr>
            <p:grpSpPr>
              <a:xfrm>
                <a:off x="7700040" y="5283360"/>
                <a:ext cx="656280" cy="771120"/>
                <a:chOff x="7700040" y="5283360"/>
                <a:chExt cx="656280" cy="771120"/>
              </a:xfrm>
            </p:grpSpPr>
            <p:sp>
              <p:nvSpPr>
                <p:cNvPr id="411" name="Oval 217"/>
                <p:cNvSpPr/>
                <p:nvPr/>
              </p:nvSpPr>
              <p:spPr>
                <a:xfrm>
                  <a:off x="8069400" y="5861880"/>
                  <a:ext cx="81720" cy="1926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18"/>
                <p:cNvSpPr/>
                <p:nvPr/>
              </p:nvSpPr>
              <p:spPr>
                <a:xfrm>
                  <a:off x="8110440" y="5283360"/>
                  <a:ext cx="81720" cy="1926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219"/>
                <p:cNvGrpSpPr/>
                <p:nvPr/>
              </p:nvGrpSpPr>
              <p:grpSpPr>
                <a:xfrm>
                  <a:off x="7700040" y="5437440"/>
                  <a:ext cx="491760" cy="115560"/>
                  <a:chOff x="7700040" y="5437440"/>
                  <a:chExt cx="491760" cy="115560"/>
                </a:xfrm>
              </p:grpSpPr>
              <p:sp>
                <p:nvSpPr>
                  <p:cNvPr id="414" name="Oval 220"/>
                  <p:cNvSpPr/>
                  <p:nvPr/>
                </p:nvSpPr>
                <p:spPr>
                  <a:xfrm>
                    <a:off x="7782120" y="5437440"/>
                    <a:ext cx="36900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221"/>
                  <p:cNvSpPr/>
                  <p:nvPr/>
                </p:nvSpPr>
                <p:spPr>
                  <a:xfrm flipH="1">
                    <a:off x="7699680" y="5437440"/>
                    <a:ext cx="12276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Oval 222"/>
                  <p:cNvSpPr/>
                  <p:nvPr/>
                </p:nvSpPr>
                <p:spPr>
                  <a:xfrm flipH="1">
                    <a:off x="8068680" y="5437440"/>
                    <a:ext cx="12276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223"/>
                <p:cNvGrpSpPr/>
                <p:nvPr/>
              </p:nvGrpSpPr>
              <p:grpSpPr>
                <a:xfrm>
                  <a:off x="7700040" y="5784480"/>
                  <a:ext cx="491760" cy="115560"/>
                  <a:chOff x="7700040" y="5784480"/>
                  <a:chExt cx="491760" cy="115560"/>
                </a:xfrm>
              </p:grpSpPr>
              <p:sp>
                <p:nvSpPr>
                  <p:cNvPr id="418" name="Oval 224"/>
                  <p:cNvSpPr/>
                  <p:nvPr/>
                </p:nvSpPr>
                <p:spPr>
                  <a:xfrm>
                    <a:off x="7782120" y="5784480"/>
                    <a:ext cx="36900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225"/>
                  <p:cNvSpPr/>
                  <p:nvPr/>
                </p:nvSpPr>
                <p:spPr>
                  <a:xfrm flipH="1">
                    <a:off x="7699680" y="5784480"/>
                    <a:ext cx="12276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226"/>
                  <p:cNvSpPr/>
                  <p:nvPr/>
                </p:nvSpPr>
                <p:spPr>
                  <a:xfrm flipH="1">
                    <a:off x="8068680" y="5784480"/>
                    <a:ext cx="122760" cy="115560"/>
                  </a:xfrm>
                  <a:prstGeom prst="ellipse">
                    <a:avLst/>
                  </a:prstGeom>
                  <a:solidFill>
                    <a:srgbClr val="009999"/>
                  </a:solidFill>
                  <a:ln w="1260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" name="Freeform 227"/>
                <p:cNvSpPr/>
                <p:nvPr/>
              </p:nvSpPr>
              <p:spPr>
                <a:xfrm>
                  <a:off x="7754760" y="5553000"/>
                  <a:ext cx="403200" cy="244080"/>
                </a:xfrm>
                <a:custGeom>
                  <a:avLst/>
                  <a:gdLst>
                    <a:gd name="textAreaLeft" fmla="*/ 0 w 403200"/>
                    <a:gd name="textAreaRight" fmla="*/ 403560 w 403200"/>
                    <a:gd name="textAreaTop" fmla="*/ 0 h 244080"/>
                    <a:gd name="textAreaBottom" fmla="*/ 244440 h 244080"/>
                  </a:gdLst>
                  <a:ahLst/>
                  <a:rect l="textAreaLeft" t="textAreaTop" r="textAreaRight" b="textAreaBottom"/>
                  <a:pathLst>
                    <a:path w="1416" h="912">
                      <a:moveTo>
                        <a:pt x="96" y="864"/>
                      </a:moveTo>
                      <a:cubicBezTo>
                        <a:pt x="0" y="816"/>
                        <a:pt x="168" y="552"/>
                        <a:pt x="240" y="432"/>
                      </a:cubicBezTo>
                      <a:cubicBezTo>
                        <a:pt x="312" y="312"/>
                        <a:pt x="384" y="216"/>
                        <a:pt x="528" y="144"/>
                      </a:cubicBezTo>
                      <a:cubicBezTo>
                        <a:pt x="672" y="72"/>
                        <a:pt x="960" y="0"/>
                        <a:pt x="1104" y="0"/>
                      </a:cubicBezTo>
                      <a:cubicBezTo>
                        <a:pt x="1248" y="0"/>
                        <a:pt x="1368" y="72"/>
                        <a:pt x="1392" y="144"/>
                      </a:cubicBezTo>
                      <a:cubicBezTo>
                        <a:pt x="1416" y="216"/>
                        <a:pt x="1344" y="336"/>
                        <a:pt x="1248" y="432"/>
                      </a:cubicBezTo>
                      <a:cubicBezTo>
                        <a:pt x="1152" y="528"/>
                        <a:pt x="984" y="648"/>
                        <a:pt x="816" y="720"/>
                      </a:cubicBezTo>
                      <a:cubicBezTo>
                        <a:pt x="648" y="792"/>
                        <a:pt x="192" y="912"/>
                        <a:pt x="96" y="864"/>
                      </a:cubicBezTo>
                      <a:close/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28"/>
                <p:cNvSpPr/>
                <p:nvPr/>
              </p:nvSpPr>
              <p:spPr>
                <a:xfrm>
                  <a:off x="7775280" y="5553000"/>
                  <a:ext cx="334800" cy="28260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1176" h="1056">
                      <a:moveTo>
                        <a:pt x="24" y="0"/>
                      </a:moveTo>
                      <a:cubicBezTo>
                        <a:pt x="12" y="96"/>
                        <a:pt x="0" y="192"/>
                        <a:pt x="24" y="288"/>
                      </a:cubicBezTo>
                      <a:cubicBezTo>
                        <a:pt x="48" y="384"/>
                        <a:pt x="24" y="456"/>
                        <a:pt x="168" y="576"/>
                      </a:cubicBezTo>
                      <a:cubicBezTo>
                        <a:pt x="312" y="696"/>
                        <a:pt x="720" y="960"/>
                        <a:pt x="888" y="1008"/>
                      </a:cubicBezTo>
                      <a:cubicBezTo>
                        <a:pt x="1056" y="1056"/>
                        <a:pt x="1116" y="960"/>
                        <a:pt x="1176" y="864"/>
                      </a:cubicBezTo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29"/>
                <p:cNvSpPr/>
                <p:nvPr/>
              </p:nvSpPr>
              <p:spPr>
                <a:xfrm>
                  <a:off x="7823160" y="5514480"/>
                  <a:ext cx="286920" cy="2696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1008" h="1008">
                      <a:moveTo>
                        <a:pt x="0" y="0"/>
                      </a:moveTo>
                      <a:cubicBezTo>
                        <a:pt x="204" y="60"/>
                        <a:pt x="408" y="120"/>
                        <a:pt x="576" y="288"/>
                      </a:cubicBezTo>
                      <a:cubicBezTo>
                        <a:pt x="744" y="456"/>
                        <a:pt x="936" y="888"/>
                        <a:pt x="1008" y="1008"/>
                      </a:cubicBezTo>
                    </a:path>
                  </a:pathLst>
                </a:custGeom>
                <a:solidFill>
                  <a:srgbClr val="009999"/>
                </a:solidFill>
                <a:ln w="1260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30"/>
                <p:cNvSpPr/>
                <p:nvPr/>
              </p:nvSpPr>
              <p:spPr>
                <a:xfrm>
                  <a:off x="8192520" y="5514480"/>
                  <a:ext cx="1638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31"/>
                <p:cNvSpPr/>
                <p:nvPr/>
              </p:nvSpPr>
              <p:spPr>
                <a:xfrm>
                  <a:off x="8192520" y="5823000"/>
                  <a:ext cx="163800" cy="0"/>
                </a:xfrm>
                <a:prstGeom prst="line">
                  <a:avLst/>
                </a:prstGeom>
                <a:ln w="12600">
                  <a:solidFill>
                    <a:srgbClr val="cc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232"/>
              <p:cNvSpPr/>
              <p:nvPr/>
            </p:nvSpPr>
            <p:spPr>
              <a:xfrm flipV="1">
                <a:off x="7321320" y="4890960"/>
                <a:ext cx="323280" cy="2073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233"/>
              <p:cNvSpPr/>
              <p:nvPr/>
            </p:nvSpPr>
            <p:spPr>
              <a:xfrm flipH="1" flipV="1">
                <a:off x="6642720" y="4890960"/>
                <a:ext cx="290520" cy="2073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34"/>
              <p:cNvSpPr/>
              <p:nvPr/>
            </p:nvSpPr>
            <p:spPr>
              <a:xfrm>
                <a:off x="7321320" y="5306400"/>
                <a:ext cx="323280" cy="2073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35"/>
              <p:cNvSpPr/>
              <p:nvPr/>
            </p:nvSpPr>
            <p:spPr>
              <a:xfrm flipH="1">
                <a:off x="6675120" y="5340960"/>
                <a:ext cx="258480" cy="1724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236"/>
              <p:cNvSpPr/>
              <p:nvPr/>
            </p:nvSpPr>
            <p:spPr>
              <a:xfrm flipV="1">
                <a:off x="7127640" y="4683600"/>
                <a:ext cx="0" cy="3110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237"/>
              <p:cNvSpPr/>
              <p:nvPr/>
            </p:nvSpPr>
            <p:spPr>
              <a:xfrm>
                <a:off x="7127640" y="5444640"/>
                <a:ext cx="0" cy="2415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2" name="Picture 238" descr=""/>
            <p:cNvPicPr/>
            <p:nvPr/>
          </p:nvPicPr>
          <p:blipFill>
            <a:blip r:embed="rId2"/>
            <a:stretch/>
          </p:blipFill>
          <p:spPr>
            <a:xfrm>
              <a:off x="6808680" y="4867200"/>
              <a:ext cx="6429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69"/>
            <p:cNvSpPr/>
            <p:nvPr/>
          </p:nvSpPr>
          <p:spPr>
            <a:xfrm>
              <a:off x="5940360" y="335592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000000"/>
                  </a:solidFill>
                  <a:latin typeface="Calibri"/>
                  <a:cs typeface="B Nazanin"/>
                </a:rPr>
                <a:t>محاسبگر شبيه مغ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41"/>
          <p:cNvSpPr/>
          <p:nvPr/>
        </p:nvSpPr>
        <p:spPr>
          <a:xfrm>
            <a:off x="380880" y="48006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مدلسازی پردازش موازی در مغ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4"/>
          <p:cNvSpPr/>
          <p:nvPr/>
        </p:nvSpPr>
        <p:spPr>
          <a:xfrm>
            <a:off x="2843280" y="23004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B Nazanin"/>
              </a:rPr>
              <a:t>نرونها و شبکه عصب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مغز مانند يک محاسبه 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F0B-FFB6-4712-9E82-60BBCEE89C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167B-0095-4A54-B42A-FC25525E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لهام از یادگيری در مغ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396216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CAE-254A-4C48-8C83-0C578263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لهام از بیولوژی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hippocampal pyramidal cells pic2"/>
          <p:cNvPicPr/>
          <p:nvPr/>
        </p:nvPicPr>
        <p:blipFill>
          <a:blip r:embed="rId1"/>
          <a:stretch/>
        </p:blipFill>
        <p:spPr>
          <a:xfrm>
            <a:off x="4724280" y="1676520"/>
            <a:ext cx="4114800" cy="3093840"/>
          </a:xfrm>
          <a:prstGeom prst="rect">
            <a:avLst/>
          </a:prstGeom>
          <a:ln w="0">
            <a:noFill/>
          </a:ln>
        </p:spPr>
      </p:pic>
      <p:sp>
        <p:nvSpPr>
          <p:cNvPr id="445" name="Oval 4"/>
          <p:cNvSpPr/>
          <p:nvPr/>
        </p:nvSpPr>
        <p:spPr>
          <a:xfrm>
            <a:off x="1600200" y="4648320"/>
            <a:ext cx="762120" cy="8380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066680" y="3429000"/>
            <a:ext cx="15264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1066680" y="4114800"/>
            <a:ext cx="76212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914400" y="3276720"/>
            <a:ext cx="53352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838080" y="2743200"/>
            <a:ext cx="763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1371600" y="2743200"/>
            <a:ext cx="763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1143000" y="2819520"/>
            <a:ext cx="763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752480" y="4114800"/>
            <a:ext cx="381240" cy="609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1828800" y="3429000"/>
            <a:ext cx="152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2133720" y="4114800"/>
            <a:ext cx="76176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2514600" y="3429000"/>
            <a:ext cx="152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2895480" y="4114800"/>
            <a:ext cx="6858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3505320" y="3657600"/>
            <a:ext cx="152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3505320" y="3657600"/>
            <a:ext cx="60948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4114800" y="3352680"/>
            <a:ext cx="152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2362320" y="3352680"/>
            <a:ext cx="45720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0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1"/>
          <p:cNvSpPr/>
          <p:nvPr/>
        </p:nvSpPr>
        <p:spPr>
          <a:xfrm>
            <a:off x="1676520" y="2895480"/>
            <a:ext cx="75960" cy="53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2133720" y="3048120"/>
            <a:ext cx="7596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2362320" y="2971800"/>
            <a:ext cx="75960" cy="53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2743200" y="2819520"/>
            <a:ext cx="763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2590920" y="2819520"/>
            <a:ext cx="457200" cy="75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2590920" y="2514600"/>
            <a:ext cx="7596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7"/>
          <p:cNvSpPr/>
          <p:nvPr/>
        </p:nvSpPr>
        <p:spPr>
          <a:xfrm>
            <a:off x="3048120" y="2514600"/>
            <a:ext cx="7596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3962520" y="3276720"/>
            <a:ext cx="45720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3962520" y="4038480"/>
            <a:ext cx="45720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0"/>
          <p:cNvSpPr/>
          <p:nvPr/>
        </p:nvSpPr>
        <p:spPr>
          <a:xfrm>
            <a:off x="3962520" y="2743200"/>
            <a:ext cx="7596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4343400" y="2743200"/>
            <a:ext cx="763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2"/>
          <p:cNvSpPr/>
          <p:nvPr/>
        </p:nvSpPr>
        <p:spPr>
          <a:xfrm>
            <a:off x="3962520" y="4038480"/>
            <a:ext cx="7596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3"/>
          <p:cNvSpPr/>
          <p:nvPr/>
        </p:nvSpPr>
        <p:spPr>
          <a:xfrm>
            <a:off x="4419720" y="4038480"/>
            <a:ext cx="7596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4"/>
          <p:cNvSpPr/>
          <p:nvPr/>
        </p:nvSpPr>
        <p:spPr>
          <a:xfrm>
            <a:off x="1828800" y="5486400"/>
            <a:ext cx="304920" cy="1219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914400" y="1981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ندري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6"/>
          <p:cNvSpPr/>
          <p:nvPr/>
        </p:nvSpPr>
        <p:spPr>
          <a:xfrm>
            <a:off x="2514600" y="4876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سته سل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7"/>
          <p:cNvSpPr/>
          <p:nvPr/>
        </p:nvSpPr>
        <p:spPr>
          <a:xfrm>
            <a:off x="228600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کس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 flipV="1">
            <a:off x="4343400" y="472428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 flipV="1">
            <a:off x="3886200" y="472428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 flipV="1">
            <a:off x="4267080" y="274320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 flipV="1">
            <a:off x="3886200" y="274320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 flipV="1">
            <a:off x="2971800" y="251460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4"/>
          <p:cNvSpPr/>
          <p:nvPr/>
        </p:nvSpPr>
        <p:spPr>
          <a:xfrm flipV="1">
            <a:off x="2514600" y="251460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5"/>
          <p:cNvSpPr/>
          <p:nvPr/>
        </p:nvSpPr>
        <p:spPr>
          <a:xfrm flipV="1">
            <a:off x="2209680" y="289548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6"/>
          <p:cNvSpPr/>
          <p:nvPr/>
        </p:nvSpPr>
        <p:spPr>
          <a:xfrm flipV="1">
            <a:off x="1981080" y="3047400"/>
            <a:ext cx="30492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7"/>
          <p:cNvSpPr/>
          <p:nvPr/>
        </p:nvSpPr>
        <p:spPr>
          <a:xfrm flipV="1">
            <a:off x="1523880" y="289548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8"/>
          <p:cNvSpPr/>
          <p:nvPr/>
        </p:nvSpPr>
        <p:spPr>
          <a:xfrm flipV="1">
            <a:off x="1295280" y="2666880"/>
            <a:ext cx="30492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9"/>
          <p:cNvSpPr/>
          <p:nvPr/>
        </p:nvSpPr>
        <p:spPr>
          <a:xfrm flipV="1">
            <a:off x="990720" y="2818800"/>
            <a:ext cx="30456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0"/>
          <p:cNvSpPr/>
          <p:nvPr/>
        </p:nvSpPr>
        <p:spPr>
          <a:xfrm flipV="1">
            <a:off x="762120" y="2666880"/>
            <a:ext cx="304560" cy="76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CF0F-E212-4D9C-9625-2A93433C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لهام از بیولوژي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1447920" y="2590920"/>
            <a:ext cx="53316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981080" y="2819520"/>
            <a:ext cx="243864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4419720" y="2590920"/>
            <a:ext cx="7596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4419720" y="2514600"/>
            <a:ext cx="60948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4495680" y="2743200"/>
            <a:ext cx="60984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4495680" y="3048120"/>
            <a:ext cx="60984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5105520" y="3276720"/>
            <a:ext cx="60948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419720" y="3352680"/>
            <a:ext cx="60948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5029200" y="3276720"/>
            <a:ext cx="7632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5105520" y="3733920"/>
            <a:ext cx="60948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05520" y="3505320"/>
            <a:ext cx="60948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562720" y="2819520"/>
            <a:ext cx="38088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1"/>
          <p:cNvSpPr/>
          <p:nvPr/>
        </p:nvSpPr>
        <p:spPr>
          <a:xfrm>
            <a:off x="5715000" y="3200400"/>
            <a:ext cx="76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5715000" y="3429000"/>
            <a:ext cx="76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3"/>
          <p:cNvSpPr/>
          <p:nvPr/>
        </p:nvSpPr>
        <p:spPr>
          <a:xfrm>
            <a:off x="5715000" y="3657600"/>
            <a:ext cx="76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4"/>
          <p:cNvSpPr/>
          <p:nvPr/>
        </p:nvSpPr>
        <p:spPr>
          <a:xfrm>
            <a:off x="5029200" y="2438280"/>
            <a:ext cx="76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5"/>
          <p:cNvSpPr/>
          <p:nvPr/>
        </p:nvSpPr>
        <p:spPr>
          <a:xfrm>
            <a:off x="5105520" y="2666880"/>
            <a:ext cx="759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6"/>
          <p:cNvSpPr/>
          <p:nvPr/>
        </p:nvSpPr>
        <p:spPr>
          <a:xfrm>
            <a:off x="5105520" y="2971800"/>
            <a:ext cx="759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5105520" y="2590920"/>
            <a:ext cx="38088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8"/>
          <p:cNvSpPr/>
          <p:nvPr/>
        </p:nvSpPr>
        <p:spPr>
          <a:xfrm>
            <a:off x="5181480" y="3048120"/>
            <a:ext cx="38124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9"/>
          <p:cNvSpPr/>
          <p:nvPr/>
        </p:nvSpPr>
        <p:spPr>
          <a:xfrm>
            <a:off x="5791320" y="3505320"/>
            <a:ext cx="38088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0"/>
          <p:cNvSpPr/>
          <p:nvPr/>
        </p:nvSpPr>
        <p:spPr>
          <a:xfrm>
            <a:off x="5486400" y="2590920"/>
            <a:ext cx="763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1"/>
          <p:cNvSpPr/>
          <p:nvPr/>
        </p:nvSpPr>
        <p:spPr>
          <a:xfrm>
            <a:off x="5943600" y="2819520"/>
            <a:ext cx="763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2"/>
          <p:cNvSpPr/>
          <p:nvPr/>
        </p:nvSpPr>
        <p:spPr>
          <a:xfrm>
            <a:off x="6172200" y="3276720"/>
            <a:ext cx="53352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4"/>
          <p:cNvSpPr/>
          <p:nvPr/>
        </p:nvSpPr>
        <p:spPr>
          <a:xfrm>
            <a:off x="6705720" y="3505320"/>
            <a:ext cx="160020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5"/>
          <p:cNvSpPr/>
          <p:nvPr/>
        </p:nvSpPr>
        <p:spPr>
          <a:xfrm>
            <a:off x="1066680" y="2819520"/>
            <a:ext cx="381240" cy="75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 flipV="1">
            <a:off x="3276720" y="312372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 flipV="1">
            <a:off x="3505320" y="3352680"/>
            <a:ext cx="2209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8"/>
          <p:cNvSpPr/>
          <p:nvPr/>
        </p:nvSpPr>
        <p:spPr>
          <a:xfrm flipV="1">
            <a:off x="3581280" y="38095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9"/>
          <p:cNvSpPr/>
          <p:nvPr/>
        </p:nvSpPr>
        <p:spPr>
          <a:xfrm flipV="1">
            <a:off x="3276720" y="2590920"/>
            <a:ext cx="16761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0"/>
          <p:cNvSpPr/>
          <p:nvPr/>
        </p:nvSpPr>
        <p:spPr>
          <a:xfrm>
            <a:off x="205740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سيناپ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2362320" y="2286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23623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کس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541008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ندري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3200400" y="5334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تقال اطلاعات در سيناپسها اتفاق می افت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BE7-B93D-4DE3-81C9-49B6E5C4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نرون در مقابل گ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io neurone"/>
          <p:cNvPicPr/>
          <p:nvPr/>
        </p:nvPicPr>
        <p:blipFill>
          <a:blip r:embed="rId1"/>
          <a:srcRect l="0" t="0" r="1430" b="0"/>
          <a:stretch/>
        </p:blipFill>
        <p:spPr>
          <a:xfrm>
            <a:off x="2286000" y="1143000"/>
            <a:ext cx="4495680" cy="23432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node"/>
          <p:cNvPicPr/>
          <p:nvPr/>
        </p:nvPicPr>
        <p:blipFill>
          <a:blip r:embed="rId2"/>
          <a:srcRect l="0" t="11863" r="0" b="0"/>
          <a:stretch/>
        </p:blipFill>
        <p:spPr>
          <a:xfrm>
            <a:off x="2057400" y="3733920"/>
            <a:ext cx="4857840" cy="2830320"/>
          </a:xfrm>
          <a:prstGeom prst="rect">
            <a:avLst/>
          </a:prstGeom>
          <a:ln w="0">
            <a:noFill/>
          </a:ln>
        </p:spPr>
      </p:pic>
      <p:sp>
        <p:nvSpPr>
          <p:cNvPr id="5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D270-7679-44B5-94B2-C2D2EEDF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شبکه های عصبی مصنوع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Esmat Rash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KGUT, Kerman, I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685800" y="166320"/>
            <a:ext cx="777240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Times New Roman"/>
                <a:ea typeface="HG Mincho Light J"/>
              </a:rPr>
              <a:t>How do ANNs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609480" y="5943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n artificial neuron is an imitation of a human neu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یادگيری در ارتباطات وزندار نرون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83440" cy="515448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E10-B491-4DB7-B812-A5135CB8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292929"/>
                </a:solidFill>
                <a:latin typeface="Arial"/>
                <a:cs typeface="B Nazanin"/>
              </a:rPr>
              <a:t>معرفی 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  <a:ea typeface="B Nazanin"/>
              </a:rPr>
              <a:t>ANN</a:t>
            </a:r>
            <a:r>
              <a:rPr b="0" lang="fa-IR" sz="3600" spc="-1" strike="noStrike">
                <a:solidFill>
                  <a:srgbClr val="292929"/>
                </a:solidFill>
                <a:latin typeface="Arial"/>
                <a:ea typeface="B Nazanin"/>
              </a:rPr>
              <a:t>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یک سیستم پردازشی داده ها که از مغز انسان ایده گرفته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در این شبکه ها ساختاری طراحی می شود که به آ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 Nazanin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یا گره گفته می شود و می تواند همانند نورون عمل ک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با ایجاد شبکه بین این گرهها و اعمال یک الگوریتم آموزشی، شبکه الگويی را ياد می گي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در شبکه ی عصبی هر لينک دارای یک وزن می باش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84C5-E250-442F-9367-C7B3C0B6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447920" y="3524400"/>
            <a:ext cx="608148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شبکه عصبی مصنوعی، از دو نکته اصلی در شبکه عصبی اقتباس ش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ANN structure"/>
          <p:cNvPicPr/>
          <p:nvPr/>
        </p:nvPicPr>
        <p:blipFill>
          <a:blip r:embed="rId1"/>
          <a:srcRect l="13725" t="10388" r="11766" b="10947"/>
          <a:stretch/>
        </p:blipFill>
        <p:spPr>
          <a:xfrm>
            <a:off x="4854600" y="2647800"/>
            <a:ext cx="4038480" cy="37306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685800" y="3352680"/>
            <a:ext cx="3962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گر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ا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نرو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وز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ا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سيناپ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7D9C-ACB9-40A7-936E-443A80DE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Content Placeholder 4" descr=""/>
          <p:cNvPicPr/>
          <p:nvPr/>
        </p:nvPicPr>
        <p:blipFill>
          <a:blip r:embed="rId1"/>
          <a:stretch/>
        </p:blipFill>
        <p:spPr>
          <a:xfrm>
            <a:off x="762120" y="2092320"/>
            <a:ext cx="7164360" cy="439092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710C-09E6-4FFB-B503-C7809A21D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  <a:ea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 Nazanin"/>
              </a:rPr>
              <a:t>AN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ها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از تعدادی نرون یا گره تشکیل شده اند که یک شبکه از نرون ها را تشکیل می ده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مرحله ای موسوم به یاد گیری دارن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وزن های سیناپسی جهت ذخیره ی دانش به کار می رون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می تواند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الگوها را طبقه بندی کن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آموزش دیدن شبکه های عصبی در واقع چیزی جز تنظیم وزن های ارتباطی این نرون ها به ازا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Nazanin"/>
              </a:rPr>
              <a:t> دریافت م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ال های مختلف نیست تا خروجی شبکه به سمت خروجی مطلوب همگرا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پس از آموزش با داده های آموزشی، توانایی پاسخگویی به داده های تست را دارد. قدرت تعمیم يا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 Nazanin"/>
              </a:rPr>
              <a:t>Generalization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9CB8-95A5-4344-AAC3-5FC18DC6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36480" y="53352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100" spc="-1" strike="noStrike">
                <a:solidFill>
                  <a:srgbClr val="000000"/>
                </a:solidFill>
                <a:latin typeface="Arial"/>
                <a:cs typeface="B Nazanin"/>
              </a:rPr>
              <a:t>مزيت</a:t>
            </a:r>
            <a:r>
              <a:rPr b="0" lang="fa-IR" sz="61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6100" spc="-1" strike="noStrike">
                <a:solidFill>
                  <a:srgbClr val="000000"/>
                </a:solidFill>
                <a:latin typeface="Arial"/>
                <a:cs typeface="B Nazanin"/>
              </a:rPr>
              <a:t>ها</a:t>
            </a:r>
            <a:r>
              <a:rPr b="0" lang="fa-IR" sz="61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28240" y="1504440"/>
            <a:ext cx="8458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بازنمايي فشرده اطلاعات در قالب ماتريسهاي مقادير وزنها و باياسها و عملکرد ساده و سريع به علت ويژگي فو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قابليت تحمل نويز و داده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هاي ناقص و قابليت تعميم دهي مناسب روي داده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هاي مشاهده نشده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قابليت پردازش غير خطي که يک ويژگي قابل توجه در کار با داده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هاي واقعي است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قدرت شبکه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هاي عصبي نتيجه طبيعت توزيع شده اطلاعات در ميان وزنها و پارامترهاي شبکه است و اين عامل توانايي ذخيره و بازيابي مناسب الگوها را به سامانه مي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B Nazanin"/>
              </a:rPr>
              <a:t>ده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4DD-DE2D-4DC9-BEE8-742D8A24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900" spc="-1" strike="noStrike">
                <a:solidFill>
                  <a:srgbClr val="000000"/>
                </a:solidFill>
                <a:latin typeface="Arial"/>
                <a:cs typeface="B Nazanin"/>
              </a:rPr>
              <a:t>عيب</a:t>
            </a:r>
            <a:r>
              <a:rPr b="0" lang="fa-IR" sz="59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5900" spc="-1" strike="noStrike">
                <a:solidFill>
                  <a:srgbClr val="000000"/>
                </a:solidFill>
                <a:latin typeface="Arial"/>
                <a:cs typeface="B Nazanin"/>
              </a:rPr>
              <a:t>ها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23880"/>
            <a:ext cx="8534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ممکن است نياز به زمان آموزش زياد داشته باشند و شايد هم به يک نقطه قابل قبول همگرا نشوند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استفاده از وزنهاي اوليه تصادفي </a:t>
            </a:r>
            <a:r>
              <a:rPr b="0" lang="fa-IR" sz="3400" spc="-1" strike="noStrike">
                <a:solidFill>
                  <a:srgbClr val="000000"/>
                </a:solidFill>
                <a:latin typeface="Arial"/>
                <a:cs typeface="B Nazanin"/>
              </a:rPr>
              <a:t>مختلف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نتايج متفاوتي را به دنبال خواهد داش</a:t>
            </a:r>
            <a:r>
              <a:rPr b="0" lang="fa-IR" sz="3400" spc="-1" strike="noStrike">
                <a:solidFill>
                  <a:srgbClr val="000000"/>
                </a:solidFill>
                <a:latin typeface="Arial"/>
                <a:cs typeface="B Nazanin"/>
              </a:rPr>
              <a:t>ت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  <a:ea typeface="B Nazani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از آنجا که تحليل شبکه</a:t>
            </a:r>
            <a:r>
              <a:rPr b="0" lang="fa-IR" sz="3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ها کار بسيار پيچيده</a:t>
            </a:r>
            <a:r>
              <a:rPr b="0" lang="fa-IR" sz="34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اي است در نتيجه در طراحي شبکه روشهاي تحليلي وجود ندارد و در نتيجه مجبور خواهيم بود به صورت تجربي يا با چندين بار آزمايش ساختار و </a:t>
            </a:r>
            <a:r>
              <a:rPr b="0" lang="fa-IR" sz="3400" spc="-1" strike="noStrike">
                <a:solidFill>
                  <a:srgbClr val="000000"/>
                </a:solidFill>
                <a:latin typeface="Arial"/>
                <a:cs typeface="B Nazanin"/>
              </a:rPr>
              <a:t>ابعاد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  <a:cs typeface="B Nazanin"/>
              </a:rPr>
              <a:t>شبکه را طراحي کني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DDA-745E-4E1E-AA04-231D0CFA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5187-4B64-464B-9299-140553D8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CIFAR-10 Image Classification with numpy only - Valentyn Sichkar"/>
          <p:cNvPicPr/>
          <p:nvPr/>
        </p:nvPicPr>
        <p:blipFill>
          <a:blip r:embed="rId2"/>
          <a:stretch/>
        </p:blipFill>
        <p:spPr>
          <a:xfrm>
            <a:off x="166680" y="1395360"/>
            <a:ext cx="4560840" cy="36702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PTB Diagnostic ECG Database | Kaggle"/>
          <p:cNvPicPr/>
          <p:nvPr/>
        </p:nvPicPr>
        <p:blipFill>
          <a:blip r:embed="rId3"/>
          <a:stretch/>
        </p:blipFill>
        <p:spPr>
          <a:xfrm>
            <a:off x="5018040" y="131112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210B-8101-4A9A-AD66-831F44DC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فهر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69000" y="1641600"/>
            <a:ext cx="3581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که عصبی ا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که های عصبی مصنوع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زايا و معا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اده و ويژ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واع شبکه های عص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واع يادگي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بقه ب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144D-6192-44C8-8FAF-F49C7F75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54000" y="1657440"/>
            <a:ext cx="358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شه ب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گرسي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يش بي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ک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دل ریاضی ن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ايند آموز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دنويس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43D-CFCE-49C2-83AA-86DEEAB2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2"/>
          <a:stretch/>
        </p:blipFill>
        <p:spPr>
          <a:xfrm>
            <a:off x="571680" y="1952640"/>
            <a:ext cx="8001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EBD0-6D38-4903-A931-6D4E4731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71B-40F6-424A-8301-EA64C8DC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Feature Vector | Brilliant Math &amp; Science Wiki"/>
          <p:cNvPicPr/>
          <p:nvPr/>
        </p:nvPicPr>
        <p:blipFill>
          <a:blip r:embed="rId2"/>
          <a:stretch/>
        </p:blipFill>
        <p:spPr>
          <a:xfrm>
            <a:off x="0" y="186696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41C1-9483-4648-B723-1929B300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2743200" y="16146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اده ها به دو دسته آموزش و آزمايش تقسيم می شو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از داده های آموزشی برای آموزش شبکه استفاده می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پس از مرحله آموزش، وزن های شبکه ثابت می شوند و از داده های آزمايش برای بررسی دقت بازشناسی شبکه در داده هايی که آموزش نديده استفاده می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2A1-3C5C-428E-8EF7-8B6FBD7B7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9B6B-CFBB-41FE-AF1E-82EC2E43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2"/>
          <a:stretch/>
        </p:blipFill>
        <p:spPr>
          <a:xfrm>
            <a:off x="206280" y="857160"/>
            <a:ext cx="873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2311-8FA1-4AC5-8D89-B045C389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"/>
          <p:cNvPicPr/>
          <p:nvPr/>
        </p:nvPicPr>
        <p:blipFill>
          <a:blip r:embed="rId2"/>
          <a:stretch/>
        </p:blipFill>
        <p:spPr>
          <a:xfrm>
            <a:off x="0" y="1722600"/>
            <a:ext cx="90266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نواع شبکه های عصب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905120"/>
            <a:ext cx="382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ypes of Net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ulti Layer Percep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Redial Basi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Hopfield 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Kohonen Featur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Adaptive Resonance Theory (Ar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ussy ArtMap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ypes of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uper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Unsuper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4643280" y="1844640"/>
            <a:ext cx="381024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earning Algorith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ta Learning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bb Learning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BFF-0180-4584-9D61-370DF6FD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Types of Learnin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در يادگيری با نظارت يا با معلم، جفت های ورودی-خروجی به شبکه نشان داده می ش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در يادگيری بدون نظارت، شبکه فقط در معرض داده ها قرار می گيرد. خروجی مطلوب در اختيار شبکه نيست. و شبکه بايد پاسخ مناسب را توليد ک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E5DE-2786-435F-BD5C-C0B62A5F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DCFA-1527-47A8-BCD4-8B522EC7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2"/>
          <a:stretch/>
        </p:blipFill>
        <p:spPr>
          <a:xfrm>
            <a:off x="590400" y="1319040"/>
            <a:ext cx="7963200" cy="4219920"/>
          </a:xfrm>
          <a:prstGeom prst="rect">
            <a:avLst/>
          </a:prstGeom>
          <a:ln w="0">
            <a:noFill/>
          </a:ln>
        </p:spPr>
      </p:pic>
      <p:sp>
        <p:nvSpPr>
          <p:cNvPr id="605" name="Title 1"/>
          <p:cNvSpPr/>
          <p:nvPr/>
        </p:nvSpPr>
        <p:spPr>
          <a:xfrm>
            <a:off x="326880" y="344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Supervised 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تاريخ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66840" indent="-275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940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به اين نتيجه رسیدند که شبکه عصبی يک واحد پردازشگر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950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شبکه عصبی مصنوعی پرسپترون توسط رزنپلت داده 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ر ده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0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تا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شبکه های عصبی ساده روی کار آمد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98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شبکه چند لایه با یادگیری پس انتشار خطا داده 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201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شبکه های عصبی يادگيری عميق توجه ها را به خود جلب کر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840" indent="0" algn="r" rtl="1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787-6859-40D2-AC0B-DF6C93C4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B10E-412D-4C89-855C-34D3A5DE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"/>
          <p:cNvPicPr/>
          <p:nvPr/>
        </p:nvPicPr>
        <p:blipFill>
          <a:blip r:embed="rId2"/>
          <a:stretch/>
        </p:blipFill>
        <p:spPr>
          <a:xfrm>
            <a:off x="457200" y="2178000"/>
            <a:ext cx="81709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0DF-D7A0-4C54-AD92-57095132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2" descr="Supervised vs Unsupervised Learning – What's the Difference?"/>
          <p:cNvPicPr/>
          <p:nvPr/>
        </p:nvPicPr>
        <p:blipFill>
          <a:blip r:embed="rId2"/>
          <a:stretch/>
        </p:blipFill>
        <p:spPr>
          <a:xfrm>
            <a:off x="404640" y="504720"/>
            <a:ext cx="82980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876D-86DD-4C55-8A57-B2E39F18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از کاربردهای شبکه عصبی در طبقه بندی داده ها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داده ها به صورت زوج های ورودی خروجی هست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خروجی مطلوب برای هر داده دسته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مربوط به آن دا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به شبکه عصبی در اين حالت، طبقه ب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classifier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گفته می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910A-1B0E-4EC8-85FF-858DF56A7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Content Placeholder 4" descr=""/>
          <p:cNvPicPr/>
          <p:nvPr/>
        </p:nvPicPr>
        <p:blipFill>
          <a:blip r:embed="rId1"/>
          <a:stretch/>
        </p:blipFill>
        <p:spPr>
          <a:xfrm>
            <a:off x="1219320" y="2379600"/>
            <a:ext cx="2347920" cy="16909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E54-889D-4928-87CF-AEDB19A3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2"/>
          <a:stretch/>
        </p:blipFill>
        <p:spPr>
          <a:xfrm>
            <a:off x="1306440" y="4768920"/>
            <a:ext cx="2293920" cy="1714320"/>
          </a:xfrm>
          <a:prstGeom prst="rect">
            <a:avLst/>
          </a:prstGeom>
          <a:ln w="0">
            <a:noFill/>
          </a:ln>
        </p:spPr>
      </p:pic>
      <p:sp>
        <p:nvSpPr>
          <p:cNvPr id="624" name="TextBox 6"/>
          <p:cNvSpPr/>
          <p:nvPr/>
        </p:nvSpPr>
        <p:spPr>
          <a:xfrm>
            <a:off x="5297400" y="16606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اده های جدا پذير خط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7"/>
          <p:cNvSpPr/>
          <p:nvPr/>
        </p:nvSpPr>
        <p:spPr>
          <a:xfrm>
            <a:off x="797760" y="165888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اده های جدا پذير غير خطی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8" descr=""/>
          <p:cNvPicPr/>
          <p:nvPr/>
        </p:nvPicPr>
        <p:blipFill>
          <a:blip r:embed="rId3"/>
          <a:stretch/>
        </p:blipFill>
        <p:spPr>
          <a:xfrm>
            <a:off x="5238720" y="2379600"/>
            <a:ext cx="2895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class 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inary classific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Content Placeholder 4" descr=""/>
          <p:cNvPicPr/>
          <p:nvPr/>
        </p:nvPicPr>
        <p:blipFill>
          <a:blip r:embed="rId1"/>
          <a:stretch/>
        </p:blipFill>
        <p:spPr>
          <a:xfrm>
            <a:off x="1494000" y="1785960"/>
            <a:ext cx="6156000" cy="4719600"/>
          </a:xfrm>
          <a:prstGeom prst="rect">
            <a:avLst/>
          </a:prstGeom>
          <a:ln w="0">
            <a:noFill/>
          </a:ln>
        </p:spPr>
      </p:pic>
      <p:sp>
        <p:nvSpPr>
          <p:cNvPr id="6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5394-D653-4DE6-868F-60E20C03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42696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ata has 4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240" y="7884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lassification (an exampl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35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The pattern recognition design cy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sider the following scen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fish processing plan wants to automate the process of sorting incoming fish according to species (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alm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ea bas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utomation system consists 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conveyor belt for incoming produ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 conveyor belts for sorted produ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pick-and-place robotic 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vision system with an overhead CCD cam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computer to analyze images and control the robot 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566640" y="396252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ECD8-3864-4CC1-9E96-2DBFFD7BE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8" descr=""/>
          <p:cNvPicPr/>
          <p:nvPr/>
        </p:nvPicPr>
        <p:blipFill>
          <a:blip r:embed="rId2"/>
          <a:stretch/>
        </p:blipFill>
        <p:spPr>
          <a:xfrm>
            <a:off x="1447920" y="1374840"/>
            <a:ext cx="5876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gnition r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نرخ بازشناسی صحيح برابر است با نسبت تعداد داده های طبقه بندی شده صحيح به کل داده 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نرخ خطا برابر است با نسبت تعداد داده های به اشتباه  طبقه بندی شده به کل داده 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F3A-D421-4E94-AE80-05F7D43B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TextBox 4" descr=""/>
          <p:cNvPicPr/>
          <p:nvPr/>
        </p:nvPicPr>
        <p:blipFill>
          <a:blip r:embed="rId1"/>
          <a:stretch/>
        </p:blipFill>
        <p:spPr>
          <a:xfrm>
            <a:off x="1371600" y="4498920"/>
            <a:ext cx="3425760" cy="5731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5" descr=""/>
          <p:cNvPicPr/>
          <p:nvPr/>
        </p:nvPicPr>
        <p:blipFill>
          <a:blip r:embed="rId2"/>
          <a:stretch/>
        </p:blipFill>
        <p:spPr>
          <a:xfrm>
            <a:off x="1371600" y="5357880"/>
            <a:ext cx="32608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کاربرد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بازشناسی دست نوشت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بازشناسی لغات تلفظ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بازشناسی چه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پیش بینی سریهای 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بازشناسی الگ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899-C459-4F43-B76E-6E69A73E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9F1F-67AF-4174-A9E6-186754D16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2"/>
          <a:stretch/>
        </p:blipFill>
        <p:spPr>
          <a:xfrm>
            <a:off x="74520" y="1600200"/>
            <a:ext cx="89949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از کاربردهای شبکه عصبی در خوشه بندی داده ها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خروجی داده ها به شبکه داده نمی ش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يادگيری بدون نظارت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شبکه عصب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SOM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برای اين کار طراحی شده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61C-DBE5-405F-B445-AF22AFD1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3200400" cy="23432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"/>
          <p:cNvPicPr/>
          <p:nvPr/>
        </p:nvPicPr>
        <p:blipFill>
          <a:blip r:embed="rId2"/>
          <a:stretch/>
        </p:blipFill>
        <p:spPr>
          <a:xfrm>
            <a:off x="4362480" y="3897360"/>
            <a:ext cx="4000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14E6-C1EC-482D-A73B-9FEBD1A7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Unsupervised learning in Image Classification - Everything To Know"/>
          <p:cNvPicPr/>
          <p:nvPr/>
        </p:nvPicPr>
        <p:blipFill>
          <a:blip r:embed="rId2"/>
          <a:stretch/>
        </p:blipFill>
        <p:spPr>
          <a:xfrm>
            <a:off x="0" y="630360"/>
            <a:ext cx="914400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56C-F404-4DBA-AD30-CB39B17F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2630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کاربردهای شبکه عصبی در تخمين داده ها يا رگرسيون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داده ها به صورت زوج های ورودی خروجی هستن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خروجی مطلوب برای هر داده يک عدد پيوسته اس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به شبکه عصبی در اين حالت، تخمينگ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Regresso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گفته می ش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3A66-5A4B-4788-B075-C4DD5F95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" descr=""/>
          <p:cNvPicPr/>
          <p:nvPr/>
        </p:nvPicPr>
        <p:blipFill>
          <a:blip r:embed="rId1"/>
          <a:stretch/>
        </p:blipFill>
        <p:spPr>
          <a:xfrm>
            <a:off x="457200" y="3743280"/>
            <a:ext cx="3733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B5F-5CDB-4A4E-8E3C-769F22B6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838080" y="1190520"/>
            <a:ext cx="70898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B8A-F79A-42AA-9758-1781AB60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Regression Algorithms | 5 Regression Algorithms you should know"/>
          <p:cNvPicPr/>
          <p:nvPr/>
        </p:nvPicPr>
        <p:blipFill>
          <a:blip r:embed="rId2"/>
          <a:stretch/>
        </p:blipFill>
        <p:spPr>
          <a:xfrm>
            <a:off x="1274760" y="1469880"/>
            <a:ext cx="659448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200-18A7-4FD9-99EA-EA812B37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Regression vs Classification in Machine Learning - Javatpoint"/>
          <p:cNvPicPr/>
          <p:nvPr/>
        </p:nvPicPr>
        <p:blipFill>
          <a:blip r:embed="rId2"/>
          <a:stretch/>
        </p:blipFill>
        <p:spPr>
          <a:xfrm>
            <a:off x="304920" y="1251000"/>
            <a:ext cx="78534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201C-054B-4CE1-9B73-F6B19A684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990720" y="1490760"/>
            <a:ext cx="6751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671D-BBFB-4504-980C-CA74E2EE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" descr=""/>
          <p:cNvPicPr/>
          <p:nvPr/>
        </p:nvPicPr>
        <p:blipFill>
          <a:blip r:embed="rId2"/>
          <a:stretch/>
        </p:blipFill>
        <p:spPr>
          <a:xfrm>
            <a:off x="420840" y="731880"/>
            <a:ext cx="82659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500" spc="-1" strike="noStrike">
                <a:solidFill>
                  <a:srgbClr val="000000"/>
                </a:solidFill>
                <a:latin typeface="Arial"/>
                <a:cs typeface="B Nazanin"/>
              </a:rPr>
              <a:t>نواحی کاربر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99840" y="1523880"/>
            <a:ext cx="6248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مور مالی، بیمه ، بانکها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B Nazanin"/>
              </a:rPr>
              <a:t>تخمین سهام، تجویز وا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زاریابی، تجار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B Nazanin"/>
              </a:rPr>
              <a:t>پیش بینی فروش، نمایش نمودار مشتر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پزشک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B Nazanin"/>
              </a:rPr>
              <a:t>تشخیص و تجویز درما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نع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B Nazanin"/>
              </a:rPr>
              <a:t>کنترل کیفیت، کنترل ماشین آل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خابر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00"/>
                </a:solidFill>
                <a:latin typeface="Arial"/>
                <a:cs typeface="B Nazanin"/>
              </a:rPr>
              <a:t>فیلترهای تطبیق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زشناسی الگو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CC0C-3A30-4E9E-91DD-6EB97CA6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B Nazanin"/>
              </a:rPr>
              <a:t>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کاربرد در پيش بين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پيش بينی نرخ ار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کاربردهای پيش بينی در بازار بور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پيش بينی مصرف بر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پيش بينی هو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29E-A1B6-412A-B418-0B594F459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197-422A-4135-8BE7-A095F676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23760" y="2257560"/>
            <a:ext cx="90518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B Nazanin"/>
              </a:rPr>
              <a:t>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B Nazani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E3CF-81DB-4982-A777-E3F8A7DC7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" descr=""/>
          <p:cNvPicPr/>
          <p:nvPr/>
        </p:nvPicPr>
        <p:blipFill>
          <a:blip r:embed="rId1"/>
          <a:stretch/>
        </p:blipFill>
        <p:spPr>
          <a:xfrm>
            <a:off x="1066680" y="1469880"/>
            <a:ext cx="72392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6"/>
          <p:cNvGrpSpPr/>
          <p:nvPr/>
        </p:nvGrpSpPr>
        <p:grpSpPr>
          <a:xfrm>
            <a:off x="3137040" y="2727360"/>
            <a:ext cx="2514600" cy="2286000"/>
            <a:chOff x="3137040" y="2727360"/>
            <a:chExt cx="2514600" cy="2286000"/>
          </a:xfrm>
        </p:grpSpPr>
        <p:sp>
          <p:nvSpPr>
            <p:cNvPr id="107" name="AutoShape 14"/>
            <p:cNvSpPr/>
            <p:nvPr/>
          </p:nvSpPr>
          <p:spPr>
            <a:xfrm>
              <a:off x="3137040" y="2727360"/>
              <a:ext cx="2514600" cy="2286000"/>
            </a:xfrm>
            <a:prstGeom prst="sun">
              <a:avLst>
                <a:gd name="adj" fmla="val 25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733920" y="3327480"/>
              <a:ext cx="1382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Calibri"/>
                </a:rPr>
                <a:t>Artificial Intellect with Neural Netwo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" name="Object 2"/>
          <p:cNvGraphicFramePr/>
          <p:nvPr/>
        </p:nvGraphicFramePr>
        <p:xfrm>
          <a:off x="3200400" y="1197000"/>
          <a:ext cx="180324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197000"/>
                    <a:ext cx="18032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9"/>
          <p:cNvSpPr/>
          <p:nvPr/>
        </p:nvSpPr>
        <p:spPr>
          <a:xfrm>
            <a:off x="3635280" y="1700280"/>
            <a:ext cx="1028880" cy="571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ntelligent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5880240" y="1628640"/>
          <a:ext cx="12254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628640"/>
                    <a:ext cx="122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21"/>
          <p:cNvSpPr/>
          <p:nvPr/>
        </p:nvSpPr>
        <p:spPr>
          <a:xfrm>
            <a:off x="5423040" y="2276640"/>
            <a:ext cx="1028520" cy="571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Technical Diagn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478640" y="3679920"/>
          <a:ext cx="14860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8640" y="3679920"/>
                    <a:ext cx="1486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24"/>
          <p:cNvSpPr/>
          <p:nvPr/>
        </p:nvSpPr>
        <p:spPr>
          <a:xfrm>
            <a:off x="7020000" y="2946240"/>
            <a:ext cx="1485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ntelli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Data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and Signal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1093680" y="1413000"/>
          <a:ext cx="146232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93680" y="1413000"/>
                    <a:ext cx="14623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26"/>
          <p:cNvSpPr/>
          <p:nvPr/>
        </p:nvSpPr>
        <p:spPr>
          <a:xfrm>
            <a:off x="1879560" y="1989000"/>
            <a:ext cx="102888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Adv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nce Robo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539640" y="2565360"/>
            <a:ext cx="1392120" cy="986040"/>
            <a:chOff x="539640" y="2565360"/>
            <a:chExt cx="1392120" cy="986040"/>
          </a:xfrm>
        </p:grpSpPr>
        <p:sp>
          <p:nvSpPr>
            <p:cNvPr id="122" name="Text Box 28"/>
            <p:cNvSpPr/>
            <p:nvPr/>
          </p:nvSpPr>
          <p:spPr>
            <a:xfrm>
              <a:off x="903240" y="2979720"/>
              <a:ext cx="1028520" cy="571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c3300"/>
                  </a:solidFill>
                  <a:latin typeface="Arial"/>
                </a:rPr>
                <a:t>Machine 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Object 10"/>
            <p:cNvGraphicFramePr/>
            <p:nvPr/>
          </p:nvGraphicFramePr>
          <p:xfrm>
            <a:off x="539640" y="2565360"/>
            <a:ext cx="600120" cy="774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640" y="2565360"/>
                      <a:ext cx="60012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5" name="Object 6"/>
          <p:cNvGraphicFramePr/>
          <p:nvPr/>
        </p:nvGraphicFramePr>
        <p:xfrm>
          <a:off x="755640" y="4581360"/>
          <a:ext cx="841320" cy="85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4581360"/>
                    <a:ext cx="84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7"/>
          <p:cNvGraphicFramePr/>
          <p:nvPr/>
        </p:nvGraphicFramePr>
        <p:xfrm>
          <a:off x="3213000" y="5589720"/>
          <a:ext cx="114300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13000" y="5589720"/>
                    <a:ext cx="11430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8"/>
          <p:cNvGraphicFramePr/>
          <p:nvPr/>
        </p:nvGraphicFramePr>
        <p:xfrm>
          <a:off x="324000" y="3860640"/>
          <a:ext cx="950760" cy="64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000" y="3860640"/>
                    <a:ext cx="950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0"/>
          <p:cNvSpPr/>
          <p:nvPr/>
        </p:nvSpPr>
        <p:spPr>
          <a:xfrm>
            <a:off x="1547640" y="4429080"/>
            <a:ext cx="1257480" cy="80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mage &amp; Pattern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4284720" y="5445000"/>
            <a:ext cx="10285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ntelligent Security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2"/>
          <p:cNvSpPr/>
          <p:nvPr/>
        </p:nvSpPr>
        <p:spPr>
          <a:xfrm>
            <a:off x="2195640" y="5445000"/>
            <a:ext cx="1028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ntelligentl   Medicine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3"/>
          <p:cNvSpPr/>
          <p:nvPr/>
        </p:nvSpPr>
        <p:spPr>
          <a:xfrm>
            <a:off x="6280200" y="4869000"/>
            <a:ext cx="1028520" cy="799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Intelligent Expert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7015320" y="5157720"/>
          <a:ext cx="1444320" cy="137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5320" y="5157720"/>
                    <a:ext cx="1444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کاربردهای شبکه عصب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D64-FB91-4B41-B359-70D886B487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2697-0830-4C34-A12D-BA6A98C09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شبکه عصبی در ا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49A-8BFA-4EE2-819B-47FE1BB6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30"/>
          <p:cNvGrpSpPr/>
          <p:nvPr/>
        </p:nvGrpSpPr>
        <p:grpSpPr>
          <a:xfrm>
            <a:off x="108000" y="3933720"/>
            <a:ext cx="2808360" cy="2735280"/>
            <a:chOff x="108000" y="3933720"/>
            <a:chExt cx="2808360" cy="2735280"/>
          </a:xfrm>
        </p:grpSpPr>
        <p:sp>
          <p:nvSpPr>
            <p:cNvPr id="144" name="Rectangle 55"/>
            <p:cNvSpPr/>
            <p:nvPr/>
          </p:nvSpPr>
          <p:spPr>
            <a:xfrm>
              <a:off x="108000" y="4005360"/>
              <a:ext cx="2808360" cy="2663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9"/>
            <p:cNvSpPr/>
            <p:nvPr/>
          </p:nvSpPr>
          <p:spPr>
            <a:xfrm>
              <a:off x="108000" y="3933720"/>
              <a:ext cx="280836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1202"/>
                  </a:solidFill>
                  <a:latin typeface="Calibri"/>
                </a:rPr>
                <a:t>Massive parallel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00000"/>
                </a:lnSpc>
                <a:spcBef>
                  <a:spcPts val="1125"/>
                </a:spcBef>
                <a:buClr>
                  <a:srgbClr val="101202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مغز انسان از تعداد زیادی نرون تشکیل شد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00000"/>
                </a:lnSpc>
                <a:spcBef>
                  <a:spcPts val="1125"/>
                </a:spcBef>
                <a:buClr>
                  <a:srgbClr val="101202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نرونها با لینکهای مستقیم به یکدیگر ارتباط دارند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01202"/>
                  </a:solidFill>
                  <a:latin typeface="Calibri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1"/>
          <p:cNvGrpSpPr/>
          <p:nvPr/>
        </p:nvGrpSpPr>
        <p:grpSpPr>
          <a:xfrm>
            <a:off x="3203640" y="3884760"/>
            <a:ext cx="2665440" cy="2784240"/>
            <a:chOff x="3203640" y="3884760"/>
            <a:chExt cx="2665440" cy="2784240"/>
          </a:xfrm>
        </p:grpSpPr>
        <p:sp>
          <p:nvSpPr>
            <p:cNvPr id="147" name="Rectangle 57"/>
            <p:cNvSpPr/>
            <p:nvPr/>
          </p:nvSpPr>
          <p:spPr>
            <a:xfrm>
              <a:off x="3203640" y="3933720"/>
              <a:ext cx="2665440" cy="2735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0"/>
            <p:cNvSpPr/>
            <p:nvPr/>
          </p:nvSpPr>
          <p:spPr>
            <a:xfrm>
              <a:off x="3203640" y="3884760"/>
              <a:ext cx="26654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1202"/>
                  </a:solidFill>
                  <a:latin typeface="Calibri"/>
                </a:rPr>
                <a:t>Connectioni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125"/>
                </a:spcBef>
                <a:buClr>
                  <a:srgbClr val="101202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01202"/>
                  </a:solidFill>
                  <a:latin typeface="Calibri"/>
                </a:rPr>
                <a:t> </a:t>
              </a: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نرونها با لینکهای زیادی به هم متصلن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29"/>
          <p:cNvGrpSpPr/>
          <p:nvPr/>
        </p:nvGrpSpPr>
        <p:grpSpPr>
          <a:xfrm>
            <a:off x="6248520" y="3894120"/>
            <a:ext cx="2592360" cy="2735280"/>
            <a:chOff x="6248520" y="3894120"/>
            <a:chExt cx="2592360" cy="2735280"/>
          </a:xfrm>
        </p:grpSpPr>
        <p:sp>
          <p:nvSpPr>
            <p:cNvPr id="150" name="Rectangle 56"/>
            <p:cNvSpPr/>
            <p:nvPr/>
          </p:nvSpPr>
          <p:spPr>
            <a:xfrm>
              <a:off x="6248520" y="4037040"/>
              <a:ext cx="2590920" cy="2592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1"/>
            <p:cNvSpPr/>
            <p:nvPr/>
          </p:nvSpPr>
          <p:spPr>
            <a:xfrm>
              <a:off x="6320160" y="3894120"/>
              <a:ext cx="252072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01202"/>
                  </a:solidFill>
                  <a:latin typeface="Calibri"/>
                </a:rPr>
                <a:t>Associative distributed 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00000"/>
                </a:lnSpc>
                <a:spcBef>
                  <a:spcPts val="1125"/>
                </a:spcBef>
                <a:buClr>
                  <a:srgbClr val="101202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اطلاعات در اتصالات بین نرونها و در</a:t>
              </a: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</a:rPr>
                <a:t> </a:t>
              </a: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سیناپسها ذخیره می شو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00000"/>
                </a:lnSpc>
                <a:spcBef>
                  <a:spcPts val="1125"/>
                </a:spcBef>
                <a:buClr>
                  <a:srgbClr val="101202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a-IR" sz="1800" spc="-1" strike="noStrike">
                  <a:solidFill>
                    <a:srgbClr val="101202"/>
                  </a:solidFill>
                  <a:latin typeface="Calibri"/>
                  <a:cs typeface="B Nazanin"/>
                </a:rPr>
                <a:t>الگوها در این اتصالات و قدرت (وزن) این اتصالات ذخیره می شود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65"/>
          <p:cNvSpPr/>
          <p:nvPr/>
        </p:nvSpPr>
        <p:spPr>
          <a:xfrm>
            <a:off x="5076720" y="2359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فرایند یادگیری مبتنی بر اصول زی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27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1266840" cy="12952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4"/>
          <p:cNvSpPr/>
          <p:nvPr/>
        </p:nvSpPr>
        <p:spPr>
          <a:xfrm>
            <a:off x="468360" y="1484280"/>
            <a:ext cx="2590920" cy="1225440"/>
          </a:xfrm>
          <a:prstGeom prst="wedgeEllipseCallout">
            <a:avLst>
              <a:gd name="adj1" fmla="val 94671"/>
              <a:gd name="adj2" fmla="val -24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Nazanin"/>
              </a:rPr>
              <a:t>مغز انسان چگونه الگوها را یاد می گی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32"/>
          <p:cNvSpPr/>
          <p:nvPr/>
        </p:nvSpPr>
        <p:spPr>
          <a:xfrm flipH="1">
            <a:off x="1763640" y="3357720"/>
            <a:ext cx="316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3"/>
          <p:cNvSpPr/>
          <p:nvPr/>
        </p:nvSpPr>
        <p:spPr>
          <a:xfrm flipH="1">
            <a:off x="4787640" y="3429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4"/>
          <p:cNvSpPr/>
          <p:nvPr/>
        </p:nvSpPr>
        <p:spPr>
          <a:xfrm>
            <a:off x="5508720" y="3357720"/>
            <a:ext cx="19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3333ff"/>
                </a:solidFill>
                <a:latin typeface="Arial"/>
                <a:cs typeface="B Nazanin"/>
              </a:rPr>
              <a:t>یادگیری در مغز انسان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B Nazani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9B25-B509-470D-B69B-E494131286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71D-FF89-40BB-A3FB-BA199925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6:02Z</dcterms:created>
  <dc:creator>Andras</dc:creator>
  <dc:description/>
  <dc:language>en-US</dc:language>
  <cp:lastModifiedBy>Esmat</cp:lastModifiedBy>
  <cp:lastPrinted>2023-05-10T19:38:53Z</cp:lastPrinted>
  <dcterms:modified xsi:type="dcterms:W3CDTF">2023-10-02T19:27:32Z</dcterms:modified>
  <cp:revision>315</cp:revision>
  <dc:subject/>
  <dc:title>Artificial Neural Networks - Introduction -</dc:title>
</cp:coreProperties>
</file>