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C82B-E3C7-44CF-A3F7-D5D96E49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8FC5-CE1C-4ACB-836E-D635A25E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1B77-9A5D-405D-9EB2-C261FDB0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2A67-1FEA-4AE7-B33A-3868D928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16DF-4EA0-4786-8F74-2161D957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111F-D5C7-4E82-AE54-C147A2A8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CB37-B3F7-4F85-811A-BC214C31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BF11-DC35-406E-857A-B48048FD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38D5-1539-4866-A708-CD80E51A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69B1-CC82-48AB-B570-B1398C91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F340-0D99-427F-9587-6962F833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0685-9AE1-4E7E-850F-30E517C6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74CB-CB34-4DD5-A9A9-60383EAE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92F1-8644-4EFF-ADF3-68F675AF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4308-C88F-4AF8-9D41-E5CABB25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ACDE-32D9-49C0-BF69-F5567F05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44D1-4D7F-4614-8189-3BDEA332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16E7-4A70-45D0-9145-C5075715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ADBF-E155-4A20-BFF3-8CFEB2C2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E9D6-CBE0-48AD-BC2A-BEFE1FDE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7A35-7E7E-45E6-8056-C602651F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B249-69E4-4E4B-8548-B02FB6DF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A003-21CB-47B3-B7D5-A66AECC6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5981-92CA-4FC2-A195-2473BF30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9EA8-E825-408B-BFA0-BA86611737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5898-23A2-4931-B74B-AB300A11B0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0066"/>
                </a:solidFill>
                <a:latin typeface="Times New Roman"/>
              </a:rPr>
              <a:t>CLUSTERING</a:t>
            </a:r>
            <a:endParaRPr b="1" lang="en-US" sz="7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F0A2-D252-48D2-90C0-7C1A63AD29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709560" y="4038480"/>
            <a:ext cx="5614920" cy="24606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845280" y="310500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sh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G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ilarities and Dissimilari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  <p:sp>
        <p:nvSpPr>
          <p:cNvPr id="18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74F0-C862-4851-A807-100355E8DE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2"/>
          <a:stretch/>
        </p:blipFill>
        <p:spPr>
          <a:xfrm>
            <a:off x="303120" y="909720"/>
            <a:ext cx="853776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Manrope"/>
              </a:rPr>
              <a:t>Hierarchical Clustering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FB36-8429-4CBD-803E-F4BE898943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Data Clustering: Methods &amp; Applications"/>
          <p:cNvPicPr/>
          <p:nvPr/>
        </p:nvPicPr>
        <p:blipFill>
          <a:blip r:embed="rId2"/>
          <a:stretch/>
        </p:blipFill>
        <p:spPr>
          <a:xfrm>
            <a:off x="0" y="1165320"/>
            <a:ext cx="91440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0066"/>
                </a:solidFill>
                <a:latin typeface="Times New Roman"/>
              </a:rPr>
              <a:t>K-MEANS CLUSTERING</a:t>
            </a:r>
            <a:endParaRPr b="1" lang="en-US" sz="7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BDA5-54AF-4E1E-B3B9-FE5E8DDE9D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914400" y="2919240"/>
            <a:ext cx="563868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K-MEANS CLUSTER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91440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-means algorith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an algorithm to cluste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bjects based on attributes into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artitions, wher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similar to the expectation-maximization algorithm for mixtures of Gaussians in that they both attempt to find the centers of natural clusters in the dat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assumes that the object attributes form a vector spac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9CC3-772A-4B0D-ACD9-727EEFEDAC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 baseline="30000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lgorithm for partitioning (or clustering) N data points into K disjoint subsets 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ntaining data points so as to minimize the sum-of-squares criter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vector representing the the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ata point and 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he geometric centroid of the data points in 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 J=sum_(j=1)^Ksum_(n in S_j)|x_n-mu_j|^2, "/>
          <p:cNvPicPr/>
          <p:nvPr/>
        </p:nvPicPr>
        <p:blipFill>
          <a:blip r:embed="rId1"/>
          <a:stretch/>
        </p:blipFill>
        <p:spPr>
          <a:xfrm>
            <a:off x="3124080" y="3505320"/>
            <a:ext cx="2438640" cy="106668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1900-BA2E-483A-9A23-BA1251CF35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y speaking k-means clustering is an algorithm to classify or to group the objects based on attributes/features into K number of group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 is positive integer numbe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ouping is done by minimizing the sum of squares of distances between data and the corresponding cluster centroi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D473-A66C-42F5-92E1-6DF2AFB44D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330066"/>
                </a:solidFill>
                <a:uFillTx/>
                <a:latin typeface="Arial"/>
              </a:rPr>
              <a:t>How the K-Mean Clustering algorithm work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6" name="Picture 5" descr="K means clustering algorithm"/>
          <p:cNvPicPr/>
          <p:nvPr/>
        </p:nvPicPr>
        <p:blipFill>
          <a:blip r:embed="rId1"/>
          <a:stretch/>
        </p:blipFill>
        <p:spPr>
          <a:xfrm>
            <a:off x="2209680" y="1676520"/>
            <a:ext cx="5029200" cy="518148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F2B6-A0AF-41BD-9BCA-BB6E2A7BF6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A4AC-2A8F-431E-ABD9-0A59D99D62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2"/>
          <a:stretch/>
        </p:blipFill>
        <p:spPr>
          <a:xfrm>
            <a:off x="34920" y="2554200"/>
            <a:ext cx="896940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  <p:sp>
        <p:nvSpPr>
          <p:cNvPr id="2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CBBF-5CC1-49F1-8A57-B026711C54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200160" y="2009880"/>
            <a:ext cx="874368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152280" y="343836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tep 1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gin with a decision on the value of k 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number of clusters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Put any initial partition that classifies th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data into k  clusters. You may  assign th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training samples randomly,or systematicall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as the following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Take the first k training sample as single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 clusters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Assign each of the remaining (N-k) train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ple t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uster with the neares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ntroid. After each  assignment, recomput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entroid of the gaining  cluste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A652-999C-4F92-9BE1-63F744B0DD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RODUCTION-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cluster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uster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he classification of objects into different groups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artitioning of a data set into subsets (clusters)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 that the data in each subset (ideally) share some common trait - often according to some defined distance measur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E26B-A7B1-4FEF-8DB7-ADDC9B5C1B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tep 3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ake each sample in sequence an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compute its distance from the centroid of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each of the clusters. If a sample is no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currently in the cluster with the closes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centroid, switch this sample to that clust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and update the centroid of the clust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gaining the new sample and the clust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losing the sampl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tep 4 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peat step 3 until convergence i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achieved, that is until a pass through th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training sample causes no new assignment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E66E-364A-4B59-9FA8-993A72AF75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169920" y="1698480"/>
            <a:ext cx="8804160" cy="422460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24D2-8D16-4C68-B7A0-90DAB8248F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CS221"/>
          <p:cNvPicPr/>
          <p:nvPr/>
        </p:nvPicPr>
        <p:blipFill>
          <a:blip r:embed="rId2"/>
          <a:stretch/>
        </p:blipFill>
        <p:spPr>
          <a:xfrm>
            <a:off x="20520" y="990720"/>
            <a:ext cx="8020080" cy="5410080"/>
          </a:xfrm>
          <a:prstGeom prst="rect">
            <a:avLst/>
          </a:prstGeom>
          <a:ln w="0">
            <a:noFill/>
          </a:ln>
        </p:spPr>
      </p:pic>
      <p:sp>
        <p:nvSpPr>
          <p:cNvPr id="23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38FD-A703-42B4-8362-FACA275ADC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42424"/>
                </a:solidFill>
                <a:latin typeface="sohne"/>
              </a:rPr>
              <a:t>Self Organizing Map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neural model for data cluster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6F82-CA62-4AD7-9D06-398883283D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Cluster Formation Algorithm in WSNs to Optimize the Energy Consumption  Using Self-Organizing Map | SpringerLink"/>
          <p:cNvPicPr/>
          <p:nvPr/>
        </p:nvPicPr>
        <p:blipFill>
          <a:blip r:embed="rId1"/>
          <a:stretch/>
        </p:blipFill>
        <p:spPr>
          <a:xfrm>
            <a:off x="838080" y="2649600"/>
            <a:ext cx="65246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7480" y="122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  <p:sp>
        <p:nvSpPr>
          <p:cNvPr id="2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40FD-1D40-4EA4-B2F4-B9704F2ADD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The Ultimate Guide to Self Organizing Maps (SOM's) - Blogs ..."/>
          <p:cNvPicPr/>
          <p:nvPr/>
        </p:nvPicPr>
        <p:blipFill>
          <a:blip r:embed="rId2"/>
          <a:stretch/>
        </p:blipFill>
        <p:spPr>
          <a:xfrm>
            <a:off x="447840" y="1265400"/>
            <a:ext cx="82483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lic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  <p:sp>
        <p:nvSpPr>
          <p:cNvPr id="2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7143-0783-4041-904D-E2AEE54B27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2"/>
          <a:stretch/>
        </p:blipFill>
        <p:spPr>
          <a:xfrm>
            <a:off x="555480" y="1860480"/>
            <a:ext cx="803304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lic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s cluste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E3C9-B8CF-499D-B56B-21CB777E11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Representation of clustering"/>
          <p:cNvPicPr/>
          <p:nvPr/>
        </p:nvPicPr>
        <p:blipFill>
          <a:blip r:embed="rId1"/>
          <a:stretch/>
        </p:blipFill>
        <p:spPr>
          <a:xfrm>
            <a:off x="1312920" y="3200400"/>
            <a:ext cx="66675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248760"/>
            <a:ext cx="626256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lic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088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stomer cluste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886A-0F82-45DB-ABDC-DDA24AF758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RFM Analysis Method of Customer Segmentation: A Step-by-Step Guide"/>
          <p:cNvPicPr/>
          <p:nvPr/>
        </p:nvPicPr>
        <p:blipFill>
          <a:blip r:embed="rId1"/>
          <a:stretch/>
        </p:blipFill>
        <p:spPr>
          <a:xfrm>
            <a:off x="395280" y="2503440"/>
            <a:ext cx="759132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lic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6840" y="1719360"/>
            <a:ext cx="2133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cial 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1FA3-6711-4FA4-AB58-20F1682CB1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Market Segmentation: Finding the Story in Your Data | Krecker &amp; Company"/>
          <p:cNvPicPr/>
          <p:nvPr/>
        </p:nvPicPr>
        <p:blipFill>
          <a:blip r:embed="rId1"/>
          <a:stretch/>
        </p:blipFill>
        <p:spPr>
          <a:xfrm>
            <a:off x="2590920" y="1150920"/>
            <a:ext cx="554832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7496280" cy="4181400"/>
          </a:xfrm>
          <a:prstGeom prst="rect">
            <a:avLst/>
          </a:prstGeom>
          <a:ln w="0">
            <a:noFill/>
          </a:ln>
        </p:spPr>
      </p:pic>
      <p:sp>
        <p:nvSpPr>
          <p:cNvPr id="1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E4CA-32AF-4508-8C73-270DD7E176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330066"/>
                </a:solidFill>
                <a:uFillTx/>
                <a:latin typeface="Arial"/>
              </a:rPr>
              <a:t>Types of clustering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: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1840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8640" indent="-54864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ierarchical algorith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se find successive clusters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previously established clusters.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gglomerative ("bottom-up"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gglomer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with each element as a separate cluster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them into successively larger clust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visive ("top-down"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visive algorithm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hole set and proceed to divide it into successive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clu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titional cluste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tional algorithms determine all clusters at once.  They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54684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means and deriv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54684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zz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eans 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54684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T clustering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7F91-6415-46A7-8723-C34430040B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665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330066"/>
                </a:solidFill>
                <a:uFillTx/>
                <a:latin typeface="Arial"/>
              </a:rPr>
              <a:t>Common Distance measur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: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istance measu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ill determine how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imilar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two elements is calculated and it will influence the shape of the clust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includ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uclidean dist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also called 2-norm distance) is given by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anhattan dist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also called taxicab norm or 1-norm) is given b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1E2C-198C-410C-9287-80F69B2D36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Optimising pairwise Euclidean distance calculations using Python ..."/>
          <p:cNvPicPr/>
          <p:nvPr/>
        </p:nvPicPr>
        <p:blipFill>
          <a:blip r:embed="rId1"/>
          <a:stretch/>
        </p:blipFill>
        <p:spPr>
          <a:xfrm>
            <a:off x="2914560" y="3665520"/>
            <a:ext cx="3638520" cy="1257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All about Manhattan Distance - Shiksha Online"/>
          <p:cNvPicPr/>
          <p:nvPr/>
        </p:nvPicPr>
        <p:blipFill>
          <a:blip r:embed="rId2"/>
          <a:stretch/>
        </p:blipFill>
        <p:spPr>
          <a:xfrm>
            <a:off x="3124080" y="5286240"/>
            <a:ext cx="378144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28240" y="53352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The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maximum no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given b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The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Mahalanobis dista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rrects data for different scales and correlations in the variabl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nner product spa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angle between two vectors can be used as a distance measure when clustering high dimensional dat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amming dista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sometimes edit distance) measures the minimum number of substitutions required to change one member into anothe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2590920" cy="762120"/>
          </a:xfrm>
          <a:prstGeom prst="rect">
            <a:avLst/>
          </a:prstGeom>
          <a:ln w="0">
            <a:noFill/>
          </a:ln>
        </p:spPr>
      </p:pic>
      <p:sp>
        <p:nvSpPr>
          <p:cNvPr id="17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6FF3-DC52-4774-8252-53854557F3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318960" y="615960"/>
            <a:ext cx="8367840" cy="5514840"/>
          </a:xfrm>
          <a:prstGeom prst="rect">
            <a:avLst/>
          </a:prstGeom>
          <a:ln w="0">
            <a:noFill/>
          </a:ln>
        </p:spPr>
      </p:pic>
      <p:sp>
        <p:nvSpPr>
          <p:cNvPr id="17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CB5A-5994-4A63-BF14-65D2F09550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4229280" y="1787400"/>
            <a:ext cx="4190760" cy="4275360"/>
          </a:xfrm>
          <a:prstGeom prst="rect">
            <a:avLst/>
          </a:prstGeom>
          <a:ln w="0">
            <a:noFill/>
          </a:ln>
        </p:spPr>
      </p:pic>
      <p:sp>
        <p:nvSpPr>
          <p:cNvPr id="1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C418-59B6-4326-A3EE-395DBD1EA5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333360" y="660240"/>
            <a:ext cx="7667640" cy="5315040"/>
          </a:xfrm>
          <a:prstGeom prst="rect">
            <a:avLst/>
          </a:prstGeom>
          <a:ln w="0">
            <a:noFill/>
          </a:ln>
        </p:spPr>
      </p:pic>
      <p:sp>
        <p:nvSpPr>
          <p:cNvPr id="18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116B-EA59-4567-9664-9EE1163715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9:10:11Z</dcterms:created>
  <dc:creator>*</dc:creator>
  <dc:description/>
  <dc:language>en-US</dc:language>
  <cp:lastModifiedBy>Esmat</cp:lastModifiedBy>
  <dcterms:modified xsi:type="dcterms:W3CDTF">2024-12-21T20:07:17Z</dcterms:modified>
  <cp:revision>47</cp:revision>
  <dc:subject/>
  <dc:title>K-MEANS CLUSTERING</dc:title>
</cp:coreProperties>
</file>