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0326-FD8A-4079-BA52-D3DEB4238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D084-1FB5-40EC-8383-B3D20A3C0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35AC-463C-43A4-A93B-CFAB4374B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0A0E-E6C9-419B-A42D-8AB5B082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EF9-006B-4072-94DE-2D15F09C6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EE81-D5B6-4B00-847C-4603762E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69B8-3F8C-4951-978B-1753B863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38F1-5038-48DC-805E-203D594AD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3B1A-E804-4FEA-8118-9C28B511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D29E-F8DF-4AE1-A600-30FF8386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4B25-72C7-4C08-A3DA-2E0A7C6A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1BA-2B8E-49D1-9FDA-5D8524F2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578-8276-4B23-905D-C0A0B113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C7D-5AB3-4957-8DE8-9C89F607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5B5-0B33-4C22-85B3-92DF91A8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0DA-A967-4136-B364-91A887CF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B81-81B3-4030-989F-ECA2B453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76E-E24B-430B-9116-837A6F7C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051-BF99-42A6-8912-04C21602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AC9-C2AA-4551-BC64-E7B2777E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9A2-7572-4187-89CA-6A5692ED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FA3-C628-4452-B659-B03EC93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D9B-3FC5-4918-8EAE-EC869DF0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3E9E-7632-4DC9-8565-20ACB4A1E7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A80D-C626-4234-AB4C-11915A93F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eb.engr.oregonstate.ed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50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ort Vector Machine</a:t>
            </a:r>
            <a:br>
              <a:rPr sz="4400"/>
            </a:br>
            <a:br>
              <a:rPr sz="4400"/>
            </a:b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B Nazanin"/>
              </a:rPr>
              <a:t>ماشين بردار پشتيب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she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E008-9F0F-4572-B7DF-DBC6B15287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pport vec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vectors are the samples closest to the separating hyperp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the most difficult patterns to classif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al hyperplane is completely defined by support v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, we do not know which samples are support vectors without finding the optimal hyperp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FD34-3647-4904-814A-1EC3CBA4CC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: Formula for the Mar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15320" cy="539136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F0E3-37CD-4AC6-96FF-4EFA213E180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: Formula for the Mar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89624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1DCA-D65F-4046-9F3C-A83A3F0FC3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: Optimal Hyperpl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15000" cy="541980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3956-98A7-4B6E-B81E-0EDEFDAB57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onstrained Quadratic Programm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04000" cy="534348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A5D8-D99B-41A6-B4D4-7AF3FCDC03E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grangian primal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3926-76C3-4E8E-8468-650562ABCB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209680" y="4038480"/>
            <a:ext cx="4886280" cy="1990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75438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olving Constrained Q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1F59-1A5F-4B0F-8BAF-EB0462AD17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3612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imal-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2DCC-2940-4B04-88F8-12C442883F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990720" y="1503360"/>
            <a:ext cx="717228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olving QP using dual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7D6A-F655-4A21-AEA2-26F737D202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351000" y="1447920"/>
            <a:ext cx="84978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hresh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2816-572A-43FB-B71A-3E3D787C0B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839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d to start in 1979 with Vladimir Vapnik’s pap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developments throughout 199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gant theory:  Has good generalization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been applied to diverse problems very success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important developments in pattern recog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70E-EBAC-4DE7-8910-D9D983763D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upport V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D7E5-9BC3-4D51-B629-926348AFDD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00160" y="1209600"/>
            <a:ext cx="89438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ore on dual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91C8-6298-498A-8BDD-82DD5488E6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39680" y="1295280"/>
            <a:ext cx="85946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: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B399-0CC8-448D-B641-5A60246E7C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74680" y="2286000"/>
            <a:ext cx="8869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FC71-8538-49D4-8F21-90B14C662C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85800" y="0"/>
            <a:ext cx="73818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: Non Separable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7E7B-022B-46FB-925F-4CAFCFCAE0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838080" y="1082520"/>
            <a:ext cx="78580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 with sl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301-4644-4EA9-B166-10683F4848E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793800" y="1523880"/>
            <a:ext cx="74343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 with sl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F627-B455-4D5B-B4DA-1B78066E2AF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1680" y="1981080"/>
            <a:ext cx="91123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 with sla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FEE4-A887-4875-91CE-1753E29D28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961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 with slacks– Dual For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B9C4-5D48-4947-B4E6-E67BCBF5DE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20600" y="2286000"/>
            <a:ext cx="90234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dvantag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ed on nice the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ellent generalization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 function has no local min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to find non linear discriminant fun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xity of the classifier is characterized by the number of support vectors rather than the dimensionality of the transformed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 Disadvantag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’s not clear how to select a kernel function in a principled ma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s to be slower than other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5D29-F51F-4EDA-A26A-67DB8F885F3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79 with Vladimir Vapnik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838840" cy="497196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A51F-8340-460C-8E24-6D6CD5D6ED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f Surface is Non-Line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32"/>
          <p:cNvGrpSpPr/>
          <p:nvPr/>
        </p:nvGrpSpPr>
        <p:grpSpPr>
          <a:xfrm>
            <a:off x="570960" y="2743200"/>
            <a:ext cx="3650760" cy="3081960"/>
            <a:chOff x="570960" y="2743200"/>
            <a:chExt cx="3650760" cy="3081960"/>
          </a:xfrm>
        </p:grpSpPr>
        <p:sp>
          <p:nvSpPr>
            <p:cNvPr id="205" name="Text Box 4"/>
            <p:cNvSpPr/>
            <p:nvPr/>
          </p:nvSpPr>
          <p:spPr>
            <a:xfrm>
              <a:off x="1618200" y="38178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5"/>
            <p:cNvSpPr/>
            <p:nvPr/>
          </p:nvSpPr>
          <p:spPr>
            <a:xfrm>
              <a:off x="1665720" y="44236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6"/>
            <p:cNvSpPr/>
            <p:nvPr/>
          </p:nvSpPr>
          <p:spPr>
            <a:xfrm>
              <a:off x="2007360" y="40442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2250000" y="36648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2445840" y="44236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2737800" y="39178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1289880" y="3628080"/>
              <a:ext cx="2142360" cy="13910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2906280" y="322236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3589200" y="305892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3346200" y="36018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3686040" y="41076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3443040" y="45514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7"/>
            <p:cNvSpPr/>
            <p:nvPr/>
          </p:nvSpPr>
          <p:spPr>
            <a:xfrm>
              <a:off x="3004920" y="50562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8"/>
            <p:cNvSpPr/>
            <p:nvPr/>
          </p:nvSpPr>
          <p:spPr>
            <a:xfrm>
              <a:off x="3821040" y="4892760"/>
              <a:ext cx="2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2323800" y="518256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0"/>
            <p:cNvSpPr/>
            <p:nvPr/>
          </p:nvSpPr>
          <p:spPr>
            <a:xfrm>
              <a:off x="1643040" y="50194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1058760" y="514692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1155240" y="45766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813600" y="413388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912600" y="356472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1009080" y="293112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6"/>
            <p:cNvSpPr/>
            <p:nvPr/>
          </p:nvSpPr>
          <p:spPr>
            <a:xfrm>
              <a:off x="1494720" y="31590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7"/>
            <p:cNvSpPr/>
            <p:nvPr/>
          </p:nvSpPr>
          <p:spPr>
            <a:xfrm>
              <a:off x="1836360" y="28062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8"/>
            <p:cNvSpPr/>
            <p:nvPr/>
          </p:nvSpPr>
          <p:spPr>
            <a:xfrm>
              <a:off x="2128320" y="31590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9"/>
            <p:cNvSpPr/>
            <p:nvPr/>
          </p:nvSpPr>
          <p:spPr>
            <a:xfrm>
              <a:off x="2519640" y="28062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0"/>
            <p:cNvSpPr/>
            <p:nvPr/>
          </p:nvSpPr>
          <p:spPr>
            <a:xfrm>
              <a:off x="3247920" y="27432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1"/>
            <p:cNvSpPr/>
            <p:nvPr/>
          </p:nvSpPr>
          <p:spPr>
            <a:xfrm>
              <a:off x="570960" y="299592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3"/>
          <p:cNvGrpSpPr/>
          <p:nvPr/>
        </p:nvGrpSpPr>
        <p:grpSpPr>
          <a:xfrm>
            <a:off x="5120640" y="2743200"/>
            <a:ext cx="3446640" cy="3446640"/>
            <a:chOff x="5120640" y="2743200"/>
            <a:chExt cx="3446640" cy="3446640"/>
          </a:xfrm>
        </p:grpSpPr>
        <p:pic>
          <p:nvPicPr>
            <p:cNvPr id="233" name="Picture 34" descr=""/>
            <p:cNvPicPr/>
            <p:nvPr/>
          </p:nvPicPr>
          <p:blipFill>
            <a:blip r:embed="rId1"/>
            <a:srcRect l="12547" t="0" r="10804" b="0"/>
            <a:stretch/>
          </p:blipFill>
          <p:spPr>
            <a:xfrm>
              <a:off x="5181480" y="2743200"/>
              <a:ext cx="32767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35"/>
            <p:cNvSpPr/>
            <p:nvPr/>
          </p:nvSpPr>
          <p:spPr>
            <a:xfrm>
              <a:off x="5120640" y="5943600"/>
              <a:ext cx="344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Palatino"/>
                  <a:ea typeface="Arial"/>
                </a:rPr>
                <a:t>Image from http://www.atrandomresearch.com/iclass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0DBD-9828-455B-BC9C-CE5A670C2A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rnel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the Non-Linear Lin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D50B-C991-4C14-9E29-5B1084B5EA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Linear Separators F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2095560" y="26668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"/>
          <p:cNvSpPr/>
          <p:nvPr/>
        </p:nvSpPr>
        <p:spPr>
          <a:xfrm flipH="1">
            <a:off x="762120" y="39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85048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680120" y="373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389600" y="373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2137320" y="373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2442240" y="3733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15540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100728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70272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5"/>
          <p:cNvSpPr/>
          <p:nvPr/>
        </p:nvSpPr>
        <p:spPr>
          <a:xfrm>
            <a:off x="4952880" y="3581280"/>
            <a:ext cx="3124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7"/>
          <p:cNvSpPr/>
          <p:nvPr/>
        </p:nvSpPr>
        <p:spPr>
          <a:xfrm>
            <a:off x="3547080" y="370044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alatino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1910160" y="21337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alatino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3"/>
          <p:cNvGrpSpPr/>
          <p:nvPr/>
        </p:nvGrpSpPr>
        <p:grpSpPr>
          <a:xfrm>
            <a:off x="5122080" y="2590920"/>
            <a:ext cx="2785680" cy="1511280"/>
            <a:chOff x="5122080" y="2590920"/>
            <a:chExt cx="2785680" cy="1511280"/>
          </a:xfrm>
        </p:grpSpPr>
        <p:sp>
          <p:nvSpPr>
            <p:cNvPr id="254" name="Text Box 17"/>
            <p:cNvSpPr/>
            <p:nvPr/>
          </p:nvSpPr>
          <p:spPr>
            <a:xfrm>
              <a:off x="727020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8"/>
            <p:cNvSpPr/>
            <p:nvPr/>
          </p:nvSpPr>
          <p:spPr>
            <a:xfrm>
              <a:off x="6099840" y="3733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9"/>
            <p:cNvSpPr/>
            <p:nvPr/>
          </p:nvSpPr>
          <p:spPr>
            <a:xfrm>
              <a:off x="5809320" y="3581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0"/>
            <p:cNvSpPr/>
            <p:nvPr/>
          </p:nvSpPr>
          <p:spPr>
            <a:xfrm>
              <a:off x="6557040" y="3733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1"/>
            <p:cNvSpPr/>
            <p:nvPr/>
          </p:nvSpPr>
          <p:spPr>
            <a:xfrm>
              <a:off x="6861960" y="3581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2"/>
            <p:cNvSpPr/>
            <p:nvPr/>
          </p:nvSpPr>
          <p:spPr>
            <a:xfrm>
              <a:off x="7574760" y="2590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3"/>
            <p:cNvSpPr/>
            <p:nvPr/>
          </p:nvSpPr>
          <p:spPr>
            <a:xfrm>
              <a:off x="5427000" y="312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4"/>
            <p:cNvSpPr/>
            <p:nvPr/>
          </p:nvSpPr>
          <p:spPr>
            <a:xfrm>
              <a:off x="5122080" y="2590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32"/>
          <p:cNvGrpSpPr/>
          <p:nvPr/>
        </p:nvGrpSpPr>
        <p:grpSpPr>
          <a:xfrm>
            <a:off x="5181120" y="2232000"/>
            <a:ext cx="3119040" cy="3102120"/>
            <a:chOff x="5181120" y="2232000"/>
            <a:chExt cx="3119040" cy="3102120"/>
          </a:xfrm>
        </p:grpSpPr>
        <p:sp>
          <p:nvSpPr>
            <p:cNvPr id="263" name="Line 15"/>
            <p:cNvSpPr/>
            <p:nvPr/>
          </p:nvSpPr>
          <p:spPr>
            <a:xfrm>
              <a:off x="6515280" y="26668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 flipH="1">
              <a:off x="5181120" y="39625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9"/>
            <p:cNvSpPr/>
            <p:nvPr/>
          </p:nvSpPr>
          <p:spPr>
            <a:xfrm>
              <a:off x="7912440" y="370044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  <a:ea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Palatino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0"/>
            <p:cNvSpPr/>
            <p:nvPr/>
          </p:nvSpPr>
          <p:spPr>
            <a:xfrm>
              <a:off x="6391080" y="2232000"/>
              <a:ext cx="462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  <a:ea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Palatino"/>
                  <a:ea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Palatino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Oval 34"/>
          <p:cNvSpPr/>
          <p:nvPr/>
        </p:nvSpPr>
        <p:spPr>
          <a:xfrm>
            <a:off x="1384200" y="3635280"/>
            <a:ext cx="141444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A3EB-8C3D-409E-9E5B-BFDF01E486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784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linear SVMs:  Feature sp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7840" y="95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idea:   the original feature space can always be mapped to some higher-dimensional feature space where the training set is separab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Line 42"/>
          <p:cNvSpPr/>
          <p:nvPr/>
        </p:nvSpPr>
        <p:spPr>
          <a:xfrm flipV="1">
            <a:off x="2068560" y="3219120"/>
            <a:ext cx="0" cy="304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3"/>
          <p:cNvSpPr/>
          <p:nvPr/>
        </p:nvSpPr>
        <p:spPr>
          <a:xfrm>
            <a:off x="447840" y="4830840"/>
            <a:ext cx="331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4"/>
          <p:cNvSpPr/>
          <p:nvPr/>
        </p:nvSpPr>
        <p:spPr>
          <a:xfrm>
            <a:off x="2098800" y="405144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5"/>
          <p:cNvSpPr/>
          <p:nvPr/>
        </p:nvSpPr>
        <p:spPr>
          <a:xfrm>
            <a:off x="1523880" y="4408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6"/>
          <p:cNvSpPr/>
          <p:nvPr/>
        </p:nvSpPr>
        <p:spPr>
          <a:xfrm>
            <a:off x="1676520" y="4954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7"/>
          <p:cNvSpPr/>
          <p:nvPr/>
        </p:nvSpPr>
        <p:spPr>
          <a:xfrm>
            <a:off x="2209680" y="54309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8"/>
          <p:cNvSpPr/>
          <p:nvPr/>
        </p:nvSpPr>
        <p:spPr>
          <a:xfrm>
            <a:off x="1790640" y="4097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9"/>
          <p:cNvSpPr/>
          <p:nvPr/>
        </p:nvSpPr>
        <p:spPr>
          <a:xfrm>
            <a:off x="1295280" y="4726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0"/>
          <p:cNvSpPr/>
          <p:nvPr/>
        </p:nvSpPr>
        <p:spPr>
          <a:xfrm>
            <a:off x="1714680" y="546876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1"/>
          <p:cNvSpPr/>
          <p:nvPr/>
        </p:nvSpPr>
        <p:spPr>
          <a:xfrm>
            <a:off x="2209680" y="44974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2"/>
          <p:cNvSpPr/>
          <p:nvPr/>
        </p:nvSpPr>
        <p:spPr>
          <a:xfrm>
            <a:off x="3111480" y="44845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3"/>
          <p:cNvSpPr/>
          <p:nvPr/>
        </p:nvSpPr>
        <p:spPr>
          <a:xfrm>
            <a:off x="2971800" y="56973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4"/>
          <p:cNvSpPr/>
          <p:nvPr/>
        </p:nvSpPr>
        <p:spPr>
          <a:xfrm>
            <a:off x="723960" y="4611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5"/>
          <p:cNvSpPr/>
          <p:nvPr/>
        </p:nvSpPr>
        <p:spPr>
          <a:xfrm>
            <a:off x="2235240" y="6066000"/>
            <a:ext cx="88920" cy="885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6"/>
          <p:cNvSpPr/>
          <p:nvPr/>
        </p:nvSpPr>
        <p:spPr>
          <a:xfrm>
            <a:off x="3200400" y="5221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7"/>
          <p:cNvSpPr/>
          <p:nvPr/>
        </p:nvSpPr>
        <p:spPr>
          <a:xfrm>
            <a:off x="1263600" y="57610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8"/>
          <p:cNvSpPr/>
          <p:nvPr/>
        </p:nvSpPr>
        <p:spPr>
          <a:xfrm>
            <a:off x="952560" y="52783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9"/>
          <p:cNvSpPr/>
          <p:nvPr/>
        </p:nvSpPr>
        <p:spPr>
          <a:xfrm>
            <a:off x="1009800" y="3754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1"/>
          <p:cNvSpPr/>
          <p:nvPr/>
        </p:nvSpPr>
        <p:spPr>
          <a:xfrm>
            <a:off x="2505240" y="4889520"/>
            <a:ext cx="8856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2"/>
          <p:cNvSpPr/>
          <p:nvPr/>
        </p:nvSpPr>
        <p:spPr>
          <a:xfrm>
            <a:off x="2124000" y="5022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3"/>
          <p:cNvSpPr/>
          <p:nvPr/>
        </p:nvSpPr>
        <p:spPr>
          <a:xfrm>
            <a:off x="2409840" y="37846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114560" y="3870360"/>
            <a:ext cx="1885680" cy="1905120"/>
          </a:xfrm>
          <a:prstGeom prst="ellipse">
            <a:avLst/>
          </a:prstGeom>
          <a:noFill/>
          <a:ln w="1584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7"/>
          <p:cNvSpPr/>
          <p:nvPr/>
        </p:nvSpPr>
        <p:spPr>
          <a:xfrm>
            <a:off x="1162080" y="3906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8"/>
          <p:cNvSpPr/>
          <p:nvPr/>
        </p:nvSpPr>
        <p:spPr>
          <a:xfrm>
            <a:off x="3086280" y="388764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9"/>
          <p:cNvSpPr/>
          <p:nvPr/>
        </p:nvSpPr>
        <p:spPr>
          <a:xfrm flipV="1">
            <a:off x="6107040" y="2971800"/>
            <a:ext cx="0" cy="20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0"/>
          <p:cNvSpPr/>
          <p:nvPr/>
        </p:nvSpPr>
        <p:spPr>
          <a:xfrm>
            <a:off x="6076800" y="5059440"/>
            <a:ext cx="23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1"/>
          <p:cNvSpPr/>
          <p:nvPr/>
        </p:nvSpPr>
        <p:spPr>
          <a:xfrm>
            <a:off x="6375240" y="44226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2"/>
          <p:cNvSpPr/>
          <p:nvPr/>
        </p:nvSpPr>
        <p:spPr>
          <a:xfrm>
            <a:off x="5800680" y="47800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3"/>
          <p:cNvSpPr/>
          <p:nvPr/>
        </p:nvSpPr>
        <p:spPr>
          <a:xfrm>
            <a:off x="6181560" y="5335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74"/>
          <p:cNvSpPr/>
          <p:nvPr/>
        </p:nvSpPr>
        <p:spPr>
          <a:xfrm>
            <a:off x="7000920" y="53355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5"/>
          <p:cNvSpPr/>
          <p:nvPr/>
        </p:nvSpPr>
        <p:spPr>
          <a:xfrm>
            <a:off x="6067440" y="44686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6"/>
          <p:cNvSpPr/>
          <p:nvPr/>
        </p:nvSpPr>
        <p:spPr>
          <a:xfrm>
            <a:off x="6276960" y="474516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7"/>
          <p:cNvSpPr/>
          <p:nvPr/>
        </p:nvSpPr>
        <p:spPr>
          <a:xfrm>
            <a:off x="6505560" y="5373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8"/>
          <p:cNvSpPr/>
          <p:nvPr/>
        </p:nvSpPr>
        <p:spPr>
          <a:xfrm>
            <a:off x="6486480" y="486900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9"/>
          <p:cNvSpPr/>
          <p:nvPr/>
        </p:nvSpPr>
        <p:spPr>
          <a:xfrm>
            <a:off x="8093160" y="4503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0"/>
          <p:cNvSpPr/>
          <p:nvPr/>
        </p:nvSpPr>
        <p:spPr>
          <a:xfrm>
            <a:off x="7953480" y="571644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81"/>
          <p:cNvSpPr/>
          <p:nvPr/>
        </p:nvSpPr>
        <p:spPr>
          <a:xfrm>
            <a:off x="7477200" y="34686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82"/>
          <p:cNvSpPr/>
          <p:nvPr/>
        </p:nvSpPr>
        <p:spPr>
          <a:xfrm>
            <a:off x="7483320" y="47322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83"/>
          <p:cNvSpPr/>
          <p:nvPr/>
        </p:nvSpPr>
        <p:spPr>
          <a:xfrm>
            <a:off x="8182080" y="52401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4"/>
          <p:cNvSpPr/>
          <p:nvPr/>
        </p:nvSpPr>
        <p:spPr>
          <a:xfrm>
            <a:off x="7007400" y="4179960"/>
            <a:ext cx="8856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85"/>
          <p:cNvSpPr/>
          <p:nvPr/>
        </p:nvSpPr>
        <p:spPr>
          <a:xfrm>
            <a:off x="7610400" y="541188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6"/>
          <p:cNvSpPr/>
          <p:nvPr/>
        </p:nvSpPr>
        <p:spPr>
          <a:xfrm>
            <a:off x="7400880" y="36781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7"/>
          <p:cNvSpPr/>
          <p:nvPr/>
        </p:nvSpPr>
        <p:spPr>
          <a:xfrm>
            <a:off x="6010200" y="518472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8"/>
          <p:cNvSpPr/>
          <p:nvPr/>
        </p:nvSpPr>
        <p:spPr>
          <a:xfrm>
            <a:off x="5629320" y="5318280"/>
            <a:ext cx="88920" cy="88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9"/>
          <p:cNvSpPr/>
          <p:nvPr/>
        </p:nvSpPr>
        <p:spPr>
          <a:xfrm>
            <a:off x="7391520" y="380376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91"/>
          <p:cNvSpPr/>
          <p:nvPr/>
        </p:nvSpPr>
        <p:spPr>
          <a:xfrm>
            <a:off x="6943680" y="333540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2"/>
          <p:cNvSpPr/>
          <p:nvPr/>
        </p:nvSpPr>
        <p:spPr>
          <a:xfrm>
            <a:off x="8067600" y="3906720"/>
            <a:ext cx="88920" cy="8892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93"/>
          <p:cNvSpPr/>
          <p:nvPr/>
        </p:nvSpPr>
        <p:spPr>
          <a:xfrm flipH="1">
            <a:off x="4859280" y="5060880"/>
            <a:ext cx="1238400" cy="99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4"/>
          <p:cNvSpPr/>
          <p:nvPr/>
        </p:nvSpPr>
        <p:spPr>
          <a:xfrm>
            <a:off x="6095880" y="3708360"/>
            <a:ext cx="1447920" cy="1333440"/>
          </a:xfrm>
          <a:prstGeom prst="line">
            <a:avLst/>
          </a:prstGeom>
          <a:ln w="1584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5"/>
          <p:cNvSpPr/>
          <p:nvPr/>
        </p:nvSpPr>
        <p:spPr>
          <a:xfrm flipV="1">
            <a:off x="6324480" y="5079600"/>
            <a:ext cx="1219320" cy="1219320"/>
          </a:xfrm>
          <a:prstGeom prst="line">
            <a:avLst/>
          </a:prstGeom>
          <a:ln w="1584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6"/>
          <p:cNvSpPr/>
          <p:nvPr/>
        </p:nvSpPr>
        <p:spPr>
          <a:xfrm flipV="1">
            <a:off x="4629240" y="3746520"/>
            <a:ext cx="1466640" cy="838080"/>
          </a:xfrm>
          <a:prstGeom prst="line">
            <a:avLst/>
          </a:prstGeom>
          <a:ln w="1584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7"/>
          <p:cNvSpPr/>
          <p:nvPr/>
        </p:nvSpPr>
        <p:spPr>
          <a:xfrm>
            <a:off x="4610160" y="4584600"/>
            <a:ext cx="1714320" cy="1695600"/>
          </a:xfrm>
          <a:prstGeom prst="line">
            <a:avLst/>
          </a:prstGeom>
          <a:ln w="1584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98"/>
          <p:cNvSpPr/>
          <p:nvPr/>
        </p:nvSpPr>
        <p:spPr>
          <a:xfrm>
            <a:off x="3591000" y="3146400"/>
            <a:ext cx="1638360" cy="457200"/>
          </a:xfrm>
          <a:custGeom>
            <a:avLst/>
            <a:gdLst>
              <a:gd name="textAreaLeft" fmla="*/ 286560 w 1638360"/>
              <a:gd name="textAreaRight" fmla="*/ 1188000 w 16383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9"/>
          <p:cNvSpPr/>
          <p:nvPr/>
        </p:nvSpPr>
        <p:spPr>
          <a:xfrm>
            <a:off x="3591000" y="3546360"/>
            <a:ext cx="16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44DF-A021-4569-8F90-BC243C114D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into a New Feature 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run SVM 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run it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non-linear separator in input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really bi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kernels to compute it implicitl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2970720" y="3352680"/>
            <a:ext cx="32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 x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X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977480" y="4038480"/>
            <a:ext cx="518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) =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1"/>
          <a:stretch/>
        </p:blipFill>
        <p:spPr>
          <a:xfrm>
            <a:off x="1249200" y="1143000"/>
            <a:ext cx="6645600" cy="20415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6372000" y="6461280"/>
            <a:ext cx="2872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  <a:ea typeface="Arial"/>
              </a:rPr>
              <a:t>Image from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Palatino"/>
                <a:ea typeface="Arial"/>
                <a:hlinkClick r:id="rId2"/>
              </a:rPr>
              <a:t>http://web.engr.oregonstate.ed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  <a:ea typeface="Arial"/>
              </a:rPr>
              <a:t>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Palatino"/>
                <a:ea typeface="Arial"/>
              </a:rPr>
              <a:t>~afern/classes/cs534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4D00-A8FD-4712-B6CE-8D3BEA2A32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r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kernel K such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ing K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should be efficient, much more so than compu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K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n SVM algorithm rather than &lt;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rkably, this is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FC41-7208-42F0-9CD2-5C7FD085A4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olynomial Kern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&lt;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 =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√2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√2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&l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2DB8-6831-422F-8D61-D2C97C02EE6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r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be a kern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&gt; for so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be a kern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m matrix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K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ve definite matr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ve definite ker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ll samples of size m, induces a positive definite Gram matr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4864-A40A-475E-919A-DC609C657CF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Functions are Kerne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170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ome function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checking 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=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can be cumbers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rcer’s theorem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very semi-positive definite symmetric function is a ker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positive definite symmetric functions correspond to a semi-positive definite symmetric Gram matri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143080" y="4235400"/>
          <a:ext cx="5353200" cy="2254320"/>
        </p:xfrm>
        <a:graphic>
          <a:graphicData uri="http://schemas.openxmlformats.org/drawingml/2006/table">
            <a:tbl>
              <a:tblPr/>
              <a:tblGrid>
                <a:gridCol w="1069920"/>
                <a:gridCol w="1071720"/>
                <a:gridCol w="1069920"/>
                <a:gridCol w="1071720"/>
                <a:gridCol w="1069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55"/>
          <p:cNvSpPr/>
          <p:nvPr/>
        </p:nvSpPr>
        <p:spPr>
          <a:xfrm>
            <a:off x="1647720" y="49053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E6E8-CD08-49F4-A461-6B22B35669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ew Good Ker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t product ker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= &lt;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nomial ker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= &lt;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onomials of degree 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= (&lt;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gt; 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ll monomials of degree 1,2,…,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ussian ker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= exp(-|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al basis 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moid ker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= tanh(&lt;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gt;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6B05-2AB1-4937-921C-DF51F186B6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34400" cy="428616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1030-07A0-47AD-8C94-987488AD69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Kernel Tri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093680" y="1905120"/>
            <a:ext cx="695016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Given an algorithm which is formulated in terms of a positive definite kernel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, one can construct an alternative algorithm by replacin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 with another positive definite kernel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alatino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1408680" y="55926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SVMs can use the kernel 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E243-A175-44F1-98DF-084FEC0B9F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linear SVMs Mathematic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problem form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ution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ization techniques for finding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 remain the sa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05040" y="2403360"/>
            <a:ext cx="6438600" cy="14806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Σ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maximized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 for all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932040" y="4511520"/>
            <a:ext cx="2781000" cy="4406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C356-BE1C-4857-A56E-43C3E886AD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ing a Different Kernel in the Dual Optimization Probl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using the polynomial kernel with d = 4 (including lower-order term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iz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1/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si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sig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x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+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019920" y="2971800"/>
            <a:ext cx="23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"/>
              </a:rPr>
              <a:t>(&lt;x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Palatino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Palatino"/>
              </a:rPr>
              <a:t>, x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Palatino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Palatino"/>
              </a:rPr>
              <a:t>&gt; + 1)</a:t>
            </a:r>
            <a:r>
              <a:rPr b="0" lang="en-US" sz="2800" spc="-1" strike="noStrike" baseline="30000">
                <a:solidFill>
                  <a:srgbClr val="0000ff"/>
                </a:solidFill>
                <a:latin typeface="Palatino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6095880" y="3276720"/>
            <a:ext cx="161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4038480" y="541008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"/>
              </a:rPr>
              <a:t>(&lt;x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Palatino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Palatino"/>
              </a:rPr>
              <a:t>, x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Palatino"/>
              </a:rPr>
              <a:t>j</a:t>
            </a:r>
            <a:r>
              <a:rPr b="0" lang="en-US" sz="2800" spc="-1" strike="noStrike">
                <a:solidFill>
                  <a:srgbClr val="0000ff"/>
                </a:solidFill>
                <a:latin typeface="Palatino"/>
              </a:rPr>
              <a:t>&gt; + 1)</a:t>
            </a:r>
            <a:r>
              <a:rPr b="0" lang="en-US" sz="2800" spc="-1" strike="noStrike" baseline="30000">
                <a:solidFill>
                  <a:srgbClr val="0000ff"/>
                </a:solidFill>
                <a:latin typeface="Palatino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4114800" y="5715000"/>
            <a:ext cx="161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3962520" y="3581280"/>
            <a:ext cx="4347360" cy="3048120"/>
            <a:chOff x="3962520" y="3581280"/>
            <a:chExt cx="4347360" cy="3048120"/>
          </a:xfrm>
        </p:grpSpPr>
        <p:sp>
          <p:nvSpPr>
            <p:cNvPr id="366" name="Oval 11"/>
            <p:cNvSpPr/>
            <p:nvPr/>
          </p:nvSpPr>
          <p:spPr>
            <a:xfrm>
              <a:off x="5943600" y="3581280"/>
              <a:ext cx="1295280" cy="6098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"/>
            <p:cNvSpPr/>
            <p:nvPr/>
          </p:nvSpPr>
          <p:spPr>
            <a:xfrm>
              <a:off x="3962520" y="6019920"/>
              <a:ext cx="1295280" cy="6094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4"/>
            <p:cNvSpPr/>
            <p:nvPr/>
          </p:nvSpPr>
          <p:spPr>
            <a:xfrm>
              <a:off x="6134400" y="480060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Palatino"/>
                  <a:ea typeface="Arial"/>
                </a:rPr>
                <a:t>These are kernel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 flipH="1">
              <a:off x="5105520" y="5257800"/>
              <a:ext cx="1295280" cy="838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 flipV="1">
              <a:off x="6477120" y="4267080"/>
              <a:ext cx="75960" cy="6098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19"/>
          <p:cNvSpPr/>
          <p:nvPr/>
        </p:nvSpPr>
        <p:spPr>
          <a:xfrm>
            <a:off x="5989320" y="457200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  <a:ea typeface="Arial"/>
              </a:rPr>
              <a:t>So by the kernel tri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Palatino"/>
                <a:ea typeface="Arial"/>
              </a:rPr>
              <a:t>we just replace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205E-22A6-4B93-82E6-B9BEA9E26A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parating Hyperpl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eparating hyperplane should we cho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4495680" cy="336204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4C5D-B949-4EF9-A6A3-A9CC1EC4EE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533520" y="3048120"/>
            <a:ext cx="0" cy="3504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380880" y="6400800"/>
            <a:ext cx="3657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5"/>
          <p:cNvSpPr/>
          <p:nvPr/>
        </p:nvSpPr>
        <p:spPr>
          <a:xfrm>
            <a:off x="1660680" y="58705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6"/>
          <p:cNvSpPr/>
          <p:nvPr/>
        </p:nvSpPr>
        <p:spPr>
          <a:xfrm>
            <a:off x="428760" y="4741920"/>
            <a:ext cx="60120" cy="475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7"/>
          <p:cNvSpPr/>
          <p:nvPr/>
        </p:nvSpPr>
        <p:spPr>
          <a:xfrm>
            <a:off x="2282760" y="3652920"/>
            <a:ext cx="60480" cy="475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8"/>
          <p:cNvSpPr/>
          <p:nvPr/>
        </p:nvSpPr>
        <p:spPr>
          <a:xfrm>
            <a:off x="2346480" y="4473720"/>
            <a:ext cx="6012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9"/>
          <p:cNvSpPr/>
          <p:nvPr/>
        </p:nvSpPr>
        <p:spPr>
          <a:xfrm>
            <a:off x="1352520" y="3502080"/>
            <a:ext cx="60480" cy="507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0"/>
          <p:cNvSpPr/>
          <p:nvPr/>
        </p:nvSpPr>
        <p:spPr>
          <a:xfrm>
            <a:off x="1828800" y="4572000"/>
            <a:ext cx="54000" cy="475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1"/>
          <p:cNvSpPr/>
          <p:nvPr/>
        </p:nvSpPr>
        <p:spPr>
          <a:xfrm>
            <a:off x="990720" y="3962520"/>
            <a:ext cx="60120" cy="5868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2"/>
          <p:cNvSpPr/>
          <p:nvPr/>
        </p:nvSpPr>
        <p:spPr>
          <a:xfrm>
            <a:off x="3048120" y="495288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3"/>
          <p:cNvSpPr/>
          <p:nvPr/>
        </p:nvSpPr>
        <p:spPr>
          <a:xfrm rot="20481600">
            <a:off x="1830240" y="5281200"/>
            <a:ext cx="5400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4"/>
          <p:cNvSpPr/>
          <p:nvPr/>
        </p:nvSpPr>
        <p:spPr>
          <a:xfrm rot="20481600">
            <a:off x="3946680" y="40669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5"/>
          <p:cNvSpPr/>
          <p:nvPr/>
        </p:nvSpPr>
        <p:spPr>
          <a:xfrm rot="20481600">
            <a:off x="3238560" y="5382720"/>
            <a:ext cx="60120" cy="5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6"/>
          <p:cNvSpPr/>
          <p:nvPr/>
        </p:nvSpPr>
        <p:spPr>
          <a:xfrm rot="20481600">
            <a:off x="1066680" y="3505320"/>
            <a:ext cx="60480" cy="507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7"/>
          <p:cNvSpPr/>
          <p:nvPr/>
        </p:nvSpPr>
        <p:spPr>
          <a:xfrm rot="20481600">
            <a:off x="2654280" y="4422600"/>
            <a:ext cx="60480" cy="5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8"/>
          <p:cNvSpPr/>
          <p:nvPr/>
        </p:nvSpPr>
        <p:spPr>
          <a:xfrm rot="20481600">
            <a:off x="3809520" y="5333760"/>
            <a:ext cx="60480" cy="47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9"/>
          <p:cNvSpPr/>
          <p:nvPr/>
        </p:nvSpPr>
        <p:spPr>
          <a:xfrm rot="20481600">
            <a:off x="1056960" y="4478040"/>
            <a:ext cx="60120" cy="475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0"/>
          <p:cNvSpPr/>
          <p:nvPr/>
        </p:nvSpPr>
        <p:spPr>
          <a:xfrm rot="5895000">
            <a:off x="1809360" y="3895560"/>
            <a:ext cx="47880" cy="540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1"/>
          <p:cNvSpPr/>
          <p:nvPr/>
        </p:nvSpPr>
        <p:spPr>
          <a:xfrm rot="5895000">
            <a:off x="2078280" y="608076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2"/>
          <p:cNvSpPr/>
          <p:nvPr/>
        </p:nvSpPr>
        <p:spPr>
          <a:xfrm rot="5895000">
            <a:off x="1057320" y="4937040"/>
            <a:ext cx="47520" cy="6048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3"/>
          <p:cNvSpPr/>
          <p:nvPr/>
        </p:nvSpPr>
        <p:spPr>
          <a:xfrm rot="5895000">
            <a:off x="2286000" y="3231720"/>
            <a:ext cx="47520" cy="540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4"/>
          <p:cNvSpPr/>
          <p:nvPr/>
        </p:nvSpPr>
        <p:spPr>
          <a:xfrm rot="5895000">
            <a:off x="3246840" y="4982400"/>
            <a:ext cx="5868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5"/>
          <p:cNvSpPr/>
          <p:nvPr/>
        </p:nvSpPr>
        <p:spPr>
          <a:xfrm rot="5895000">
            <a:off x="2313000" y="49176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6"/>
          <p:cNvSpPr/>
          <p:nvPr/>
        </p:nvSpPr>
        <p:spPr>
          <a:xfrm rot="5895000">
            <a:off x="3562560" y="42033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7"/>
          <p:cNvSpPr/>
          <p:nvPr/>
        </p:nvSpPr>
        <p:spPr>
          <a:xfrm rot="5895000">
            <a:off x="1030320" y="3184560"/>
            <a:ext cx="47520" cy="6048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8"/>
          <p:cNvSpPr/>
          <p:nvPr/>
        </p:nvSpPr>
        <p:spPr>
          <a:xfrm rot="5895000">
            <a:off x="3203640" y="411120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9"/>
          <p:cNvSpPr/>
          <p:nvPr/>
        </p:nvSpPr>
        <p:spPr>
          <a:xfrm rot="5895000">
            <a:off x="3059640" y="5556960"/>
            <a:ext cx="586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0"/>
          <p:cNvSpPr/>
          <p:nvPr/>
        </p:nvSpPr>
        <p:spPr>
          <a:xfrm rot="4776600">
            <a:off x="1440360" y="4372560"/>
            <a:ext cx="58680" cy="601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1"/>
          <p:cNvSpPr/>
          <p:nvPr/>
        </p:nvSpPr>
        <p:spPr>
          <a:xfrm rot="4776600">
            <a:off x="2593800" y="6092640"/>
            <a:ext cx="4788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2"/>
          <p:cNvSpPr/>
          <p:nvPr/>
        </p:nvSpPr>
        <p:spPr>
          <a:xfrm rot="4776600">
            <a:off x="2289240" y="5711760"/>
            <a:ext cx="47520" cy="5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3"/>
          <p:cNvSpPr/>
          <p:nvPr/>
        </p:nvSpPr>
        <p:spPr>
          <a:xfrm rot="4776600">
            <a:off x="759600" y="4574160"/>
            <a:ext cx="58680" cy="540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4"/>
          <p:cNvSpPr/>
          <p:nvPr/>
        </p:nvSpPr>
        <p:spPr>
          <a:xfrm rot="4776600">
            <a:off x="1655640" y="3614400"/>
            <a:ext cx="50760" cy="540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5"/>
          <p:cNvSpPr/>
          <p:nvPr/>
        </p:nvSpPr>
        <p:spPr>
          <a:xfrm rot="4776600">
            <a:off x="2298600" y="5202000"/>
            <a:ext cx="50760" cy="6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6"/>
          <p:cNvSpPr/>
          <p:nvPr/>
        </p:nvSpPr>
        <p:spPr>
          <a:xfrm rot="4776600">
            <a:off x="446760" y="3920040"/>
            <a:ext cx="58680" cy="6048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7"/>
          <p:cNvSpPr/>
          <p:nvPr/>
        </p:nvSpPr>
        <p:spPr>
          <a:xfrm rot="4776600">
            <a:off x="1879920" y="5887080"/>
            <a:ext cx="5544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8"/>
          <p:cNvSpPr/>
          <p:nvPr/>
        </p:nvSpPr>
        <p:spPr>
          <a:xfrm rot="4776600">
            <a:off x="3246120" y="5594040"/>
            <a:ext cx="50760" cy="60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0"/>
          <p:cNvSpPr/>
          <p:nvPr/>
        </p:nvSpPr>
        <p:spPr>
          <a:xfrm flipV="1">
            <a:off x="1371600" y="2514600"/>
            <a:ext cx="144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3"/>
          <p:cNvSpPr/>
          <p:nvPr/>
        </p:nvSpPr>
        <p:spPr>
          <a:xfrm flipV="1">
            <a:off x="228600" y="3200040"/>
            <a:ext cx="403848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4"/>
          <p:cNvSpPr/>
          <p:nvPr/>
        </p:nvSpPr>
        <p:spPr>
          <a:xfrm flipV="1">
            <a:off x="533520" y="3048120"/>
            <a:ext cx="312408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5"/>
          <p:cNvSpPr/>
          <p:nvPr/>
        </p:nvSpPr>
        <p:spPr>
          <a:xfrm flipV="1">
            <a:off x="0" y="3352320"/>
            <a:ext cx="449568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6"/>
          <p:cNvSpPr/>
          <p:nvPr/>
        </p:nvSpPr>
        <p:spPr>
          <a:xfrm flipV="1">
            <a:off x="380880" y="3047760"/>
            <a:ext cx="381024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7"/>
          <p:cNvSpPr/>
          <p:nvPr/>
        </p:nvSpPr>
        <p:spPr>
          <a:xfrm flipV="1">
            <a:off x="304920" y="2742840"/>
            <a:ext cx="3886200" cy="33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8"/>
          <p:cNvSpPr/>
          <p:nvPr/>
        </p:nvSpPr>
        <p:spPr>
          <a:xfrm flipV="1">
            <a:off x="533520" y="2590560"/>
            <a:ext cx="3429000" cy="33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9"/>
          <p:cNvSpPr/>
          <p:nvPr/>
        </p:nvSpPr>
        <p:spPr>
          <a:xfrm flipV="1">
            <a:off x="762120" y="2971440"/>
            <a:ext cx="274320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0"/>
          <p:cNvSpPr/>
          <p:nvPr/>
        </p:nvSpPr>
        <p:spPr>
          <a:xfrm flipV="1">
            <a:off x="304920" y="3047760"/>
            <a:ext cx="411480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parating Hyperpl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ining data is just a subset of all possible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hyperplane is close to sample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x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we see new sample close to sample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i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likely to be on the wrong side of the hyperpla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or </a:t>
            </a: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generaliz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performance on unseen dat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295960" y="1447920"/>
            <a:ext cx="3848040" cy="284796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75AA-0066-4814-A076-1128F4DBE0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parating Hyperpla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plane as far as possible from any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amples close to the old samples will be classified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gener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3733560" cy="320976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8F4-EDDF-4348-80D6-967690DE0F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: maximize distance to the closest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optimal hyperplane: distance to the closest negative example = distance to the closest positiv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990720" y="3648240"/>
            <a:ext cx="6933960" cy="32097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96C0-8A24-4EB4-B413-EC7F08EE10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VM: Linearly Separable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VM: maximize the marg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rgin is twice the absolute value of distance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 d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losest example to the separating hyperpla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ter generalization (performance on test data) in practice and in theo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5010120" y="3581280"/>
            <a:ext cx="4133880" cy="284796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F189-503B-4997-9153-8E8EC9F914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3733920"/>
            <a:ext cx="50767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20:27:32Z</dcterms:created>
  <dc:creator>rashedi</dc:creator>
  <dc:description/>
  <dc:language>en-US</dc:language>
  <cp:lastModifiedBy>Esmat</cp:lastModifiedBy>
  <dcterms:modified xsi:type="dcterms:W3CDTF">2024-11-01T20:48:02Z</dcterms:modified>
  <cp:revision>115</cp:revision>
  <dc:subject/>
  <dc:title>Slide 1</dc:title>
</cp:coreProperties>
</file>